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F874-0402-40D9-8F28-E39A0757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451D-E86E-4629-A144-04400B88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970D-4F58-4108-908A-CF098637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94AE-7B13-4DAA-BADC-9D0ED346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6733-4C7A-4347-A92F-ABBCEDF1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1F17-E7F2-4759-AAD3-FC492098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D57-75CE-46DB-8466-451F2D0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A34D-2656-4D45-84FF-8EC1A51A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3055-5FB8-4E35-85E8-DFFD5441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3347-C01C-464F-A22B-D3BF47CE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EB46-3E31-476C-85D8-BB57BE8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FA77-355D-4864-B499-12274F02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95F4-B5E2-4384-8EBF-61E6F10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6D05-F190-4A5E-8D45-A346BE22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3F8A-66F6-4566-A068-81DE762E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0872-C9EF-4E39-A43E-79C30EA9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80A1-5A34-4BC9-B3B8-5170915E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78282-8D64-4C91-9087-DEE8723B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8F6D-B8D2-44DB-A76C-A17A6CCE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C6B8-6157-4DAA-91E4-3BA8B56F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0C7B-5DDC-4B72-8FF9-E9BC20EF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C1CDC-5FA1-4760-BB1E-707E99B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25A5-60F6-41DA-867E-7B6FD19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3DE4-D386-42DE-88FA-CD1BD9A7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E0CC-81AA-480D-8E83-D64641CFA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A219-2C5E-415F-92D4-626433DBAC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../QMS%20Procedures/Approved%20Supplier%20List.doc" TargetMode="External"/><Relationship Id="rId3" Type="http://schemas.openxmlformats.org/officeDocument/2006/relationships/hyperlink" Target="file:///../QMS%20Procedures/Supplier%20Management%20&amp;%20Purchasing.doc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urchasing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Schedu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218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Scheduling Material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/ Service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d Products / Services meeting specifications &amp; on-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Schedu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3716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Approved Supplier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Supplier Management &amp; Purchasing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P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Lead time adhe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112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09:34Z</dcterms:modified>
  <cp:revision>40</cp:revision>
  <dc:subject/>
  <dc:title>SIPOC</dc:title>
</cp:coreProperties>
</file>