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AE5EE-C8DE-4829-97F6-6C778AF0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D23A6-0BD7-425E-B730-DAF22D66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C333-7DEA-49E0-885E-907CA1A5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CD3A-25EC-4C2C-A2F1-69CD9B36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25C3-4BC1-42E8-8245-74AA5340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E2D7-A78F-4FA2-ABCF-F4D4FCAB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AB3D-F070-483C-AE1E-28350D33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EA3B-5EAC-4647-BBA8-66B6608C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32FC-43B7-426B-B6BC-3906DA96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D9D5-4359-4A45-8A16-9D88D922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0C5C-7A99-42AD-AAE0-13676F0A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AEE9-0073-4882-9B61-216E624B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C29E-4A24-48D9-A406-A7DF967C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BD70-398A-41C3-90FD-6E48781F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8E38-90A3-4EEC-9892-CA6DFDD0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346E-F7A8-434D-B708-C6AA7C89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BE49-2A1D-435E-BE19-E1B311DC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AC1E-E57C-4B90-9BAE-29A3F28D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A1FD1-9C53-4077-B262-5C6AFC55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2700D-34AB-4D6C-A18E-83758996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8DD4-06A0-4497-B930-F12284D5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59A9-A66D-4F03-9302-D75C4CD7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2818-BBA0-4251-A997-71960F65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0B2F2-7A1E-49A4-B668-B5BAADAA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ED4D-FBD1-4BB1-8BF5-DE097CB7B3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3EE9-44BB-42A7-A90D-FE76936DAD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609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VP of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im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rnal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es 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ing 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Pr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rnal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rnal Customer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es 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P of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el Quotation Spreadshe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ta Costing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ked Orders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ion January 23, 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15:52Z</dcterms:modified>
  <cp:revision>42</cp:revision>
  <dc:subject/>
  <dc:title>SIPOC</dc:title>
</cp:coreProperties>
</file>