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4264-9CEB-4BC5-A190-5B9DAC22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3FB8-A750-4D0B-9A5B-FF1B6C0B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5EB4-D101-4DB4-BA73-5C1FF6CF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D68E-EDD3-4C93-B8D8-85996B4E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AFBF-81A8-4F69-B3FB-E055A19A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BE5F-8F85-4445-BF05-D853D978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BAE5-68BC-4C7C-9E07-BAA3D196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B80C-E9D2-4F82-A467-9C7AB142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25FA-21AB-4902-8E37-1FC6853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DF22-27F1-4E16-9A0B-184944CF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4A5C-BC65-4BB7-9449-FFE4019F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963D-D235-4C98-93B4-36095F8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DA81-A17F-4B7F-9C71-56F0E951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17A3-C774-44EB-8ED4-DFE5C605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BECF-ACDA-4735-B815-03F8524B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3CF2-FE4D-44A1-B530-6F6EB5CE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11D0-AFA3-4DAB-8C00-A251C68D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5CB1E-D207-4AD3-98E1-9D6E46AA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FD67-1FAF-4542-8748-7AF111BF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8517-115E-4D61-9E94-08C094C3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295B-FACE-48DE-9315-100D5733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3CCE-3D09-409E-8B21-9416C26D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7168-85F3-4337-A923-25C5E29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5726-C07B-4828-9E72-980B1EC8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66B0-FA0F-493D-87C5-AFB6FCA68D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4C72-8409-430C-B945-23CF621A5B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../QMS%20Procedures/Supplier%20Management%20&amp;%20Purchasing.doc" TargetMode="External"/><Relationship Id="rId3" Type="http://schemas.openxmlformats.org/officeDocument/2006/relationships/hyperlink" Target="file:///../QMS%20Forms/Supplier%20Approval%20Worksheet.doc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666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09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urchasing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27672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li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Schedu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capability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/ Service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d Products / Services meeting specifications &amp; on-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d Supplier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in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Supplier Management &amp; Purchasing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upplier Approval Work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Quality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P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232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product specification handb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Quality Engin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Quality &amp; Delivery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tion in Receiving Inspection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520" y="45720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2:24:52Z</dcterms:modified>
  <cp:revision>41</cp:revision>
  <dc:subject/>
  <dc:title>SIPOC</dc:title>
</cp:coreProperties>
</file>