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DF79-B966-45EB-84AB-25AE1C01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F69B-0992-4D6A-9B5B-B3F0F17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2005-FAA1-4E13-B402-62AEA15D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BE27-2978-47F0-B041-84FF09E7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78E3-B57D-4214-8190-D2551E89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FD2-5346-4B4C-B441-9BC564C9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C5F-0F36-4906-9141-67F546AC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14A8-B6FD-49AB-BD43-00AC2566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0097-AE2A-49F5-B99D-055CADA3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FC3-E241-4318-92A3-425E5B25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25D1-7502-494B-BBA2-ED74BFDB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25C6E-9384-4DA7-9D89-0FBB4ADC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3FD-7588-42E9-A71E-D12D9A1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94AD-4393-4C28-A056-75E7D925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9976-275E-4392-B617-19FF0C7B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41ED-399A-44B3-AC9C-FB1F5616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657A-BA18-4332-A5B6-CDF6A0A1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018C-C622-4004-B54E-954DE3F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33230-8556-4726-8917-022666E1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178B-D01E-4238-B036-9F462D5E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762E-078C-4472-86FB-F4D7B383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A271-2C22-4465-8491-AC110486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B997-3749-4A61-97B9-87936D87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2AAE-9977-48C0-BB85-8129BB1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0AA-80EE-4589-97EA-A2A1E65F74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C4E-E359-42ED-ACD7-EF55CDA47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pany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11430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Quality Management System (QMS)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endshow"/>
            <a:hlinkClick r:id="rId1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7524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Tahoma"/>
              </a:rPr>
              <a:t>The (Company Name) QMS covers the production of screw machine parts for the automotive and appliance indus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7d"/>
                </a:solidFill>
                <a:uFillTx/>
                <a:latin typeface="Tahoma"/>
              </a:rPr>
              <a:t>Exclusions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:  We are not design responsible for any of the products that we sell therefore we have excluded the design clause, 7.3, of the ISO 9001:2000 standard from our Q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743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7d"/>
                </a:solidFill>
                <a:uFillTx/>
                <a:latin typeface="Tahoma"/>
              </a:rPr>
              <a:t>QMS Standard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: The (Company Name) QMS complies with the requirements of the ISO 9001:2000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4876920"/>
            <a:ext cx="5943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7d"/>
                </a:solidFill>
                <a:uFillTx/>
                <a:latin typeface="Tahoma"/>
              </a:rPr>
              <a:t>Customer Specific Requirements (CSRs):</a:t>
            </a: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dditionally, the (Company Name) QMS complies with the published CSRs of Delphi, GM, and Viste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14:01:46Z</dcterms:created>
  <dc:creator>Glenn Schnauber</dc:creator>
  <dc:description/>
  <dc:language>en-US</dc:language>
  <cp:lastModifiedBy>GS</cp:lastModifiedBy>
  <dcterms:modified xsi:type="dcterms:W3CDTF">2005-04-14T12:55:03Z</dcterms:modified>
  <cp:revision>8</cp:revision>
  <dc:subject/>
  <dc:title>Quality Policy</dc:title>
</cp:coreProperties>
</file>