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EB04-C6D9-4872-B242-25C3A468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62BF-F2ED-4662-9D2E-9168EB89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2FE2-F866-4EC3-A290-170B789A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3A05-3336-4B54-A6AC-2849A7B8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9FDB-D877-49E7-A55C-5F0EEFB4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0990-8678-4BF2-A813-5D88C5F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8A4D-C482-4B73-A676-E46BFFC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A0E3-3AE3-4E22-842A-0D2F7260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207E-0757-4F42-912B-207D18E9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4944-135D-4993-8C44-0302669B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F05F-4B74-45B1-9E5D-1331A1C8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D1D7-87D1-4E8B-830D-C4E8053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345A-BCE8-430C-8D74-FE7480F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1EF4-A2F2-475F-BC4F-A01A6AD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E27F-1891-442F-B2DC-06308B92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5E37-D8DF-4714-B571-F2A2AE2F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233-4008-486B-8E98-91B819E7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C2EB-53D9-4407-993B-93F12571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DA87-9001-410F-8427-86412213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6C54-DDCF-49B0-8130-6C431F1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1D75-0349-40BB-842B-B9339BDC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7790F-2D18-442A-B191-6D3AE32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B0C9-3D83-4358-9DAC-CDE0A7B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6E1F-F598-4823-AD38-17E93A7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C874-42F1-4D27-86EE-8B78D46E1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CA6E-F18E-401B-A2A0-2FDAF9BAB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6094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urchasing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52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source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Finished 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er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Quality Ma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004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 Hand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840" y="45720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Quality Performance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-time Delivery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520" y="45720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2:02Z</dcterms:modified>
  <cp:revision>43</cp:revision>
  <dc:subject/>
  <dc:title>SIPOC</dc:title>
</cp:coreProperties>
</file>