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FC97-03D6-4142-B16F-F771EEE7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42EC-1166-448C-A884-3620686A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0563-1A04-4350-91D2-C0738A8D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7E9A-DA7C-4F0E-9AB7-24064BF6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6F50-4054-456B-B147-57E442E9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1433-2484-4918-959C-D59E32F6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3E7A-901D-4A7B-B538-E5B32B1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B834-DAD6-4266-ADD5-21C059D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184C-E0EC-4A6B-8F92-3DED5A65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7DC8-46C1-47C0-A30D-7D283E8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28EB-7B59-456F-BF29-1997D6D7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5302-C73F-4EDB-8120-080DCBA7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57BD-3B0F-4735-9DD3-4B3E762F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EC43-AF5E-4FBC-A3D4-D772C637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FCE5-AE4C-4962-B9A0-74898FDF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2C08-D205-4BE2-8CD9-0CEFC8D8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1D6-7148-40F5-B50C-0FE02B4F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BDB2-B33B-4A44-ADE3-6C347FD1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5B45-4494-4898-A6C2-5B92771C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B1AF-2767-423A-95ED-059AC4CB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6486-23E9-4435-8C45-8D5F5917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B0312-DF8D-4CA7-9023-85473DAF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BB2D-E5F8-4BF4-9E9D-D756CB1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1A5D-40BD-409E-BA65-8D9BC01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A491-5C21-49F9-9B74-AA051D01A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919-D892-461A-ACE0-0268EE409F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pany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600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alit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endshow"/>
            <a:hlinkClick r:id="rId1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209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Blah Blah Blah… Customer Satisfaction…  Blah, Blah, Blah…Continual Improve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334120"/>
            <a:ext cx="31240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i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4:01:46Z</dcterms:created>
  <dc:creator>Glenn Schnauber</dc:creator>
  <dc:description/>
  <dc:language>en-US</dc:language>
  <cp:lastModifiedBy>GS</cp:lastModifiedBy>
  <dcterms:modified xsi:type="dcterms:W3CDTF">2005-11-17T14:39:18Z</dcterms:modified>
  <cp:revision>9</cp:revision>
  <dc:subject/>
  <dc:title>Quality Policy</dc:title>
</cp:coreProperties>
</file>