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09E45-81B0-4E30-A7EF-7BD1B6D1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CA84-E080-4827-BA1B-10EDCF6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8FBA6-E09D-4064-B46A-624E7DB0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AF3D-6003-43D0-9D57-FB4475DE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B5E-34C6-4956-9ADE-821CD28C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C065-CB30-4583-AF58-2B5042B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BC9-7C98-4F6C-8222-7245846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0E06-B634-44B9-A8EE-37D0339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C57A-2301-4B23-B211-40EE6CB1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1BB8-4245-4F0A-9359-3BFA09F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FEB-3973-4A0E-89C0-864CA52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1F2B-9BFF-45DD-9D75-F05EFBDF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AEFE-8D3A-4E80-8E0F-44B07238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A92E-621D-4C5D-BC22-1D59CC0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FC06-1070-4DC3-A822-DFDE6035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D018-E45B-49B2-B0ED-D72FD338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B76E-44CD-425C-9BE8-D2D45933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D48E-DA66-4DB5-8D5E-3F81179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78DF-23E2-4F9D-B000-BED74BCE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633C-D46D-4862-9F96-EC44E8F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3C3F-AB47-4026-B51D-CD9D8031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821D-060A-4200-8972-9B703643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1E5E-BB7B-4392-B82B-81C4017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1228F-5C26-4194-BF99-ECBAE68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73D-761F-44F8-A201-BD35261E3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79BF-0883-46D8-AB71-8A36B51E01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09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 Trave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e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bs Cr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p Load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p Sche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Phased Material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Service Vend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edi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Delivery Performance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6:58Z</dcterms:modified>
  <cp:revision>40</cp:revision>
  <dc:subject/>
  <dc:title>SIPOC</dc:title>
</cp:coreProperties>
</file>