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4389-042D-47C4-A264-FDD7FE2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36DCA-00E3-44DA-ADA5-5E05DAAF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A989-5036-4C79-89EF-78E5FD35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21267-23AB-4148-B3E9-4CE2F74E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68B8-7860-4654-A7EB-2079DA1A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D3B2-6D98-4EB9-9563-D3B41374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59EA-A716-4DDC-8261-E208C3D0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33FF-AE16-4A28-9AE3-C8B7E6D2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40B9-9027-4D5A-BAA4-31800117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F463-9CE8-488C-8815-A756BE2C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E4A6-DF99-47A2-AF65-34821EC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698A9-68A1-4FE1-B346-09AB03B5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94B9-CF0D-45CA-8DCF-F8666F6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C602-5961-4A77-9AEC-251CEEA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74C-80A3-417C-B828-EAD1F05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3D3A-DB9E-42C3-9F8F-08B4A270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7551-8D52-43A8-AD6C-887AF543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78E7-9E79-4DD7-8264-E212A6F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95F2D-3667-4259-9582-06B7E13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3FB4-DCBF-4D60-9A18-BFAE961F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6F86-91AD-4C20-8FB0-2BE4ED1F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304C-AD11-4D5E-BDFB-19E025D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30EA-EB74-4584-98B2-F0026109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DE83-7787-4312-82B9-97318B9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B7D-6E6B-45C4-97B0-B4C25A946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6C6-C366-48E9-9B35-6986FCCBA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60948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ata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d Var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AG FMEA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840" y="4572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MEA - # of recommended actions per qu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MEA – Avg. RPN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MEA – O vs. D re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240" y="45720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1:40Z</dcterms:modified>
  <cp:revision>41</cp:revision>
  <dc:subject/>
  <dc:title>SIPOC</dc:title>
</cp:coreProperties>
</file>