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4FB5F-C98F-4DD6-871E-0F9C7AD52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E1FD2-90A8-4388-AE09-E78483A45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88E8F-A9BD-430C-9928-2FCF1DA53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FBED9-04EB-45BA-81BB-7A46206AE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13EA1-7D75-44BD-8B7A-9106FB5E0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53251-D939-43BF-BBA0-09141E20F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D0F26-95E3-4E51-8DDD-A033EEA54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30C5C-120D-4716-A019-EC2312D10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DC100-8A04-41B6-A629-285083DEA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FA106-C180-450E-9436-E75F3B861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47075-92CF-4180-9498-144C80A1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D38F6-7213-4512-ABB6-95E98802B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47008-E1CC-437D-90ED-369C8979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91260-B6AF-40C2-A559-5F811271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5847C-7E7B-48B5-9B2D-ED38BC5CE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BACC2-E21F-465D-9C24-D186BD292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3B990-D54D-4AD0-8211-821B51744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10875-E307-4669-BA53-B9C08D678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20FC0-18ED-4420-9D23-3BF8B1015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AE101-ADF0-4DC4-9E85-350566889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3E540-BBAA-401A-BC8D-B7B1954EA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19A1C-1CF4-4B09-BBB6-A73DEE90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E4DAE-EA52-4290-B737-CF3C2D91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16DFF-61DD-469A-8013-1546D12C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93E81-C30B-4F1E-81A5-6EA651B932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5673A-CE0F-4C89-A412-EA13B29904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>
            <a:hlinkClick r:id="" action="ppaction://hlinkshowjump?jump=endshow"/>
            <a:hlinkClick r:id="rId1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Process De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2680" y="2971800"/>
            <a:ext cx="2743200" cy="1295280"/>
          </a:xfrm>
          <a:prstGeom prst="bevel">
            <a:avLst>
              <a:gd name="adj" fmla="val 12500"/>
            </a:avLst>
          </a:prstGeom>
          <a:solidFill>
            <a:srgbClr val="00007d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38480" y="312408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72200" y="609480"/>
            <a:ext cx="281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7d"/>
                </a:solidFill>
                <a:latin typeface="Arial"/>
              </a:rPr>
              <a:t>Process Owner: </a:t>
            </a:r>
            <a:r>
              <a:rPr b="0" lang="en-US" sz="1400" spc="-1" strike="noStrike" u="sng">
                <a:solidFill>
                  <a:srgbClr val="00007d"/>
                </a:solidFill>
                <a:uFillTx/>
                <a:latin typeface="Arial"/>
              </a:rPr>
              <a:t>Quality 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35053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al Au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447920"/>
            <a:ext cx="2286000" cy="11430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agement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53360" y="1050840"/>
            <a:ext cx="120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ppli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(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3048120"/>
            <a:ext cx="2286000" cy="144756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agement Team request for status of QMS (Management Review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us &amp; Importance of processes / Audit Scheduling workshe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O Certification Body request for status of Q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23640" y="2639880"/>
            <a:ext cx="92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put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629400" y="3048120"/>
            <a:ext cx="2286000" cy="11430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nal Audit Repo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onformance Find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servation Find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rovement Opportun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629400" y="1447920"/>
            <a:ext cx="2286000" cy="11430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Own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agement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ternal Custom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167240" y="1039680"/>
            <a:ext cx="137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tomer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244280" y="2639880"/>
            <a:ext cx="108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tput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1371600"/>
            <a:ext cx="2743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1447920"/>
            <a:ext cx="2743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52680" y="1447920"/>
            <a:ext cx="2741760" cy="1143000"/>
          </a:xfrm>
          <a:prstGeom prst="rect">
            <a:avLst/>
          </a:pr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43400" y="114300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190040" y="114300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hod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52480" y="4876920"/>
            <a:ext cx="2741760" cy="1143000"/>
          </a:xfrm>
          <a:prstGeom prst="rect">
            <a:avLst/>
          </a:pr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lity Assurance Manag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nal Aud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89480" y="457200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ourc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029200" y="4876920"/>
            <a:ext cx="2741760" cy="1143000"/>
          </a:xfrm>
          <a:prstGeom prst="rect">
            <a:avLst/>
          </a:pr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ternal Surveillance Aud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dit survey sc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dit improvement sc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8840" y="4572000"/>
            <a:ext cx="80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ric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vision: January 28, 2005</a:t>
            </a: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8:43:24Z</dcterms:created>
  <dc:creator>Glenn Schnauber</dc:creator>
  <dc:description/>
  <dc:language>en-US</dc:language>
  <cp:lastModifiedBy>GS</cp:lastModifiedBy>
  <dcterms:modified xsi:type="dcterms:W3CDTF">2005-04-14T13:13:33Z</dcterms:modified>
  <cp:revision>40</cp:revision>
  <dc:subject/>
  <dc:title>SIPOC</dc:title>
</cp:coreProperties>
</file>