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21F6-2917-4EE6-B0E7-6DA5C6D7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4ED6-2D79-45A4-8AAC-04409AD6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12840" y="755640"/>
            <a:ext cx="4437000" cy="33274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33680"/>
            <a:ext cx="50292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F981-B4B9-4F8C-894B-2226B0B4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1389-9AFE-45E0-9BF9-C48A975E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B4B-097B-4125-9FD9-89700DD0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6F7-D9D3-433D-9067-263824F3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973-A530-4A96-84A9-DAFECDE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A54-58C6-4ED0-BE79-A205D8F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56E-C3A5-47E6-A95D-491D8B8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DA8-1793-4A1B-94B6-7D5F973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0C30-00E6-4591-B93B-BE1C75D7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A8E-7CAA-4434-924A-C1DAD42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C82-8E05-40DC-A032-3E87A783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757-6423-41BB-98AB-B086798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3BB0-68D1-44A8-9E7D-92DBA576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609760" y="6323760"/>
            <a:ext cx="304200" cy="305640"/>
            <a:chOff x="8609760" y="6323760"/>
            <a:chExt cx="304200" cy="305640"/>
          </a:xfrm>
        </p:grpSpPr>
        <p:sp>
          <p:nvSpPr>
            <p:cNvPr id="49" name="">
              <a:hlinkClick r:id="" action="ppaction://hlinkshowjump?jump=endshow"/>
              <a:hlinkClick r:id="rId1"/>
            </p:cNvPr>
            <p:cNvSpPr/>
            <p:nvPr/>
          </p:nvSpPr>
          <p:spPr>
            <a:xfrm>
              <a:off x="8609760" y="6323760"/>
              <a:ext cx="304200" cy="305640"/>
            </a:xfrm>
            <a:custGeom>
              <a:avLst/>
              <a:gdLst>
                <a:gd name="textAreaLeft" fmla="*/ 19440 w 304200"/>
                <a:gd name="textAreaRight" fmla="*/ 284760 w 304200"/>
                <a:gd name="textAreaTop" fmla="*/ 19440 h 305640"/>
                <a:gd name="textAreaBottom" fmla="*/ 286200 h 305640"/>
              </a:gdLst>
              <a:ahLst/>
              <a:rect l="textAreaLeft" t="textAreaTop" r="textAreaRight" b="textAreaBottom"/>
              <a:pathLst>
                <a:path w="21600" h="21702">
                  <a:moveTo>
                    <a:pt x="0" y="0"/>
                  </a:moveTo>
                  <a:lnTo>
                    <a:pt x="21600" y="0"/>
                  </a:lnTo>
                  <a:lnTo>
                    <a:pt x="21600" y="21702"/>
                  </a:lnTo>
                  <a:lnTo>
                    <a:pt x="0" y="21702"/>
                  </a:lnTo>
                  <a:close/>
                </a:path>
                <a:path fill="lightenLess" w="21600" h="2170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702">
                  <a:moveTo>
                    <a:pt x="21600" y="0"/>
                  </a:moveTo>
                  <a:lnTo>
                    <a:pt x="21600" y="21702"/>
                  </a:lnTo>
                  <a:lnTo>
                    <a:pt x="20200" y="20302"/>
                  </a:lnTo>
                  <a:lnTo>
                    <a:pt x="20200" y="1400"/>
                  </a:lnTo>
                  <a:close/>
                </a:path>
                <a:path fill="darkenLess" w="21600" h="21702">
                  <a:moveTo>
                    <a:pt x="21600" y="21702"/>
                  </a:moveTo>
                  <a:lnTo>
                    <a:pt x="0" y="21702"/>
                  </a:lnTo>
                  <a:lnTo>
                    <a:pt x="1400" y="20302"/>
                  </a:lnTo>
                  <a:lnTo>
                    <a:pt x="20200" y="20302"/>
                  </a:lnTo>
                  <a:close/>
                </a:path>
                <a:path fill="lighten" w="21600" h="21702">
                  <a:moveTo>
                    <a:pt x="0" y="2170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302"/>
                  </a:lnTo>
                  <a:close/>
                </a:path>
                <a:path fill="darken" w="21600" h="21702">
                  <a:moveTo>
                    <a:pt x="3794" y="10851"/>
                  </a:moveTo>
                  <a:lnTo>
                    <a:pt x="17806" y="3845"/>
                  </a:lnTo>
                  <a:lnTo>
                    <a:pt x="17806" y="17858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9343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mpany Name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MS Document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8380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cK Footnote"/>
          <p:cNvSpPr/>
          <p:nvPr/>
        </p:nvSpPr>
        <p:spPr>
          <a:xfrm>
            <a:off x="1500120" y="5589360"/>
            <a:ext cx="83329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585720" indent="-585720">
              <a:spcBef>
                <a:spcPts val="300"/>
              </a:spcBef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720" indent="-585720">
              <a:spcBef>
                <a:spcPts val="300"/>
              </a:spcBef>
              <a:tabLst>
                <a:tab algn="l" pos="0"/>
                <a:tab algn="r" pos="5446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0120" y="4292640"/>
            <a:ext cx="2870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22520" y="2013120"/>
            <a:ext cx="5883120" cy="3301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9040" y="2735280"/>
            <a:ext cx="1270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79880" y="3560760"/>
            <a:ext cx="2768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7640" y="4076640"/>
            <a:ext cx="3692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02200" y="227160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887560"/>
            <a:ext cx="228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licable to all are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3505320"/>
            <a:ext cx="26334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pplicable to all are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0760" y="4129200"/>
            <a:ext cx="37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Work Instructions, Process Value Stream Maps, Prints, Process Routers (process / product / machine specif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800600"/>
            <a:ext cx="5035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876920"/>
            <a:ext cx="47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, Records &amp;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-April-2005</a:t>
            </a: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2:37:20Z</dcterms:created>
  <dc:creator>Glenn Schnauber</dc:creator>
  <dc:description/>
  <dc:language>en-US</dc:language>
  <cp:lastModifiedBy>GS</cp:lastModifiedBy>
  <dcterms:modified xsi:type="dcterms:W3CDTF">2005-11-17T14:36:14Z</dcterms:modified>
  <cp:revision>8</cp:revision>
  <dc:subject/>
  <dc:title>Comprehensive Measurement Systems</dc:title>
</cp:coreProperties>
</file>