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28062-90A6-4F89-AF4C-0BB3E3BA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D756D-915A-422C-B7F9-89ECE655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531AD-CA46-49E5-BE20-5DD3DD19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7C2D7-9047-4527-837B-673F7898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360B-1815-4A3C-AA86-E4174A4E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EE39-47A6-451E-AEA3-15E634DC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67F4-A87D-4EA9-89F7-FC9FC257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2870-9F4D-44AA-8F55-5173DFDA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A1AC-8494-4BE4-ABB9-9A7A00B8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5C6A-AFC1-40AC-B95D-4054AD06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1B9C-9987-4824-9222-4622A9E5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BBFE2-507C-4FE3-95C5-785AD03C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0BF0-D4B2-42C5-A29E-460FC9FF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09B3-D921-492C-BD49-923D2B17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0D46-083A-4356-8483-8BAC23F4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8CCE-08D4-4F0E-811C-79C2815E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5154-6E3E-4FEB-99F2-AC734BBF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35284-D7FB-46EA-BFE1-9A86A034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0C935-83D4-48E8-935F-F273DE55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87D0-1126-4D3F-86BA-F78E69EC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D1355-0A10-44B5-BA20-BC782D22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E4195-E006-4FCA-8C58-FB33E94B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66694-C7FD-4F6D-B8F3-2A8FF22C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882F4-ABF2-47D6-B41B-18C2E068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55F3-2C10-471D-A27D-57B93CC268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B706-657D-487A-B627-FE639A638E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6094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Quality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3526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ument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P of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Assurance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Ow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2189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Spec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Pr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cification Vari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System Docu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led Doc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P of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Assurance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Ow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ons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004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Assurance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Pers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nal Audit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 change avg. turnaround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884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ion January 28, 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16:17Z</dcterms:modified>
  <cp:revision>38</cp:revision>
  <dc:subject/>
  <dc:title>SIPOC</dc:title>
</cp:coreProperties>
</file>