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049C-8474-4062-980F-1C98E082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F4CC-4D3C-45EE-97E7-BB98D31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DDD8-C3F1-4E1A-9D0C-EF52EB6B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047E-FC4B-4834-ABEA-0AC442B3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23DE-B106-4348-9BFD-577C5F82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AB1E-0806-4650-96FE-B3F8D01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06D-680F-4C97-BFB5-13DC391E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70D2-49CD-4920-89D0-791FB4C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AB7F-EB6D-4EBA-9DDE-A4E41DB7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5800-D607-482B-9B35-5B71F2E7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C848-816E-40A4-85F7-4EFF8B01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6DF9-2AE2-452A-8966-F3CCA1EE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7F6B-C59E-40FA-BE83-C485764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525F-C52F-49C3-8867-4131A090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D032-565E-4D4F-85BE-F4480355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C3F6-03A6-4A55-BA58-78B64F0B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3FC5-53CD-4547-B86E-43489D99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6C68-B6F6-4EC5-9045-FBD993E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B4479-F61B-4E28-8299-92F473F7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E072-B28A-4EEE-8744-9E4EF296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F4EC-F232-4946-A301-39B555FD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C165-0CB4-4F02-98BD-879B304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1AE1-1712-4B7B-BD21-85493E9D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B7D2-CF35-40D2-95BE-AEAD9836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75F8-3251-4945-A2E6-F3BE02B05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68E8-2318-47D9-A6E1-758F6FFC7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../QMS Procedures/Corrective and Preventive Action.doc" TargetMode="External"/><Relationship Id="rId3" Type="http://schemas.openxmlformats.org/officeDocument/2006/relationships/hyperlink" Target="../QMS Forms/Problem Solver &amp; Improvement Form.doc" TargetMode="External"/><Relationship Id="rId4" Type="http://schemas.openxmlformats.org/officeDocument/2006/relationships/hyperlink" Target="../QMS Forms/Problem Solver &amp; Improvement Form Ranking Criteria.doc" TargetMode="External"/><Relationship Id="rId5" Type="http://schemas.openxmlformats.org/officeDocument/2006/relationships/hyperlink" Target="../QMS Forms/Problem Solver &amp; Improvement Form Ranking Criteria.doc" TargetMode="External"/><Relationship Id="rId6" Type="http://schemas.openxmlformats.org/officeDocument/2006/relationships/hyperlink" Target="../QMS Forms/Problem Solver &amp; Improvement Form Ranking Criteria.doc" TargetMode="External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Qual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iv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Rejec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CMR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Revi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easu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al Audit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Compl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MS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Ow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orrective and Preventive Action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roblem Solver &amp; Improvement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Problem Solver &amp; Improvement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1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Form Ranking Crite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ssuranc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ering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Quality Ra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g. RPN reduction (F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tio of O vs. D reduction (F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7:54Z</dcterms:modified>
  <cp:revision>38</cp:revision>
  <dc:subject/>
  <dc:title>SIPOC</dc:title>
</cp:coreProperties>
</file>