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947EA-8FCA-4985-9215-91AEE52E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A27E-FF05-427E-9A49-F3C355BD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BBF5-8907-4F12-AA87-DFBFFF89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DBD98-C615-4469-960F-D90B7AEB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ECDC-6A09-4A0E-BAD7-212370A2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7B34-2F0D-4757-AF48-62CFE063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FD40-98D1-4AFE-8674-1F1F9529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A6F9-6DF6-49E7-AB45-7E67D669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18BC-A240-4088-8489-99F3EF93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C300-57A0-4A1C-BA78-16BAAEAC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F8BF-8AB5-42C1-8FD1-6EABF49A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95F7C-2B90-4C02-95D4-43DEFF0B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F4F7-734B-49CB-AAF6-3B0ECD90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7BE5-C421-4C8B-8746-77097DEC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8481-0B3C-41A7-AB89-8765F8D3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4D50-2A2B-47B2-A7BE-7AD930E5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B52F-4CBA-4EDB-A056-8D888091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F8B31-1FCC-4D13-8B63-D76B119B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B811-0ED2-48AE-B6FE-84E041E6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49715-0289-4489-9F6E-CF3705BF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5F285-D090-4CE6-B39C-2C57F4C3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C62C-D316-4CEF-A300-B1CCA4D2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CC3CE-F9A1-4A05-90C2-6CC918C0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60C6B-E24F-4721-82B3-20C68C6A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89C5-F0FF-42AA-9E1D-0E9BC2A4C1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CC71-934E-40F9-9322-32114F46A6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094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Maintenance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3526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ive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chine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tenance Sche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tenance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are parts inven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tenance Per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airs Per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tenance Pers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vi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tenance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840" y="45720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cheduled Down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EE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ion: January 28, 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11:04Z</dcterms:modified>
  <cp:revision>39</cp:revision>
  <dc:subject/>
  <dc:title>SIPOC</dc:title>
</cp:coreProperties>
</file>