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8FE7-534C-4750-AE79-21E920E0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2777-1571-456D-BD7F-C448F464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F222D-19A6-4C81-9190-8F3F953E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8108-DE94-47A3-908C-4FD5B3EE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6AE8-1B65-4770-8F65-160095FA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192E-C05E-4081-BF8E-65FD853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E5E7-D5F5-47C1-BE75-118C286B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3C02-CFEC-4680-B76E-0F71E159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FD04-0714-43E5-9F9F-6E11E8AA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1BB9-5657-499C-8007-AC5F818C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C7F4-962C-43BC-ACD4-34301D40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089F-1583-4CD6-A130-B3F9894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4F57-BE42-429E-AB88-EE63287C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8035-2634-4BDD-9F0F-D0D28BDE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52D6-468D-4983-9940-16D5222C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5CB4-D9DB-44FE-813D-C5E8A23F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35D2-1621-4626-B5B0-08B81512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CAEE-47DD-4332-AF7F-6AB576BA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01EA1-DBE8-4E0C-9037-C37644A3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006C-A029-488C-A0C0-8EAF2D62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5758-401B-4A1B-BF70-AC583FFC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B5AF-B4E9-4459-AD17-5A45E86D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AB93-2C8B-4D2A-BC44-4B9A2BA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6C5DD-165E-463E-AD5A-45C81763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BC6E-B755-4624-8232-C81950ED7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D111-F30D-4337-89E8-C5F33FCFD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evised November 5, 2004</a:t>
            </a:r>
          </a:p>
        </p:txBody>
      </p:sp>
    </p:spTree>
  </p:cSld>
  <p:transition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ompany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endshow"/>
            <a:hlinkClick r:id="rId1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9051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h, Blah, Bla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vised November 5, 2004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8:43:24Z</dcterms:created>
  <dc:creator>Glenn Schnauber</dc:creator>
  <dc:description/>
  <dc:language>en-US</dc:language>
  <cp:lastModifiedBy>Glenn Schnauber</cp:lastModifiedBy>
  <dcterms:modified xsi:type="dcterms:W3CDTF">2004-11-05T19:54:41Z</dcterms:modified>
  <cp:revision>30</cp:revision>
  <dc:subject/>
  <dc:title>Company History</dc:title>
</cp:coreProperties>
</file>