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B8EA-484D-46DB-BFA7-A3E596A3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2D3C-B131-4876-8B5B-5C7F0542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4AC5F-442D-46A5-A398-F4D0372D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87DF7-9B84-47AA-AFAA-AD975A3F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2207-6CBE-4B37-A1F5-F9DAE730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C9A2-3459-4617-BF40-5E33AAC7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71DC-15B5-401F-9043-A9D83C9D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9BE1-E63F-429E-B30D-41B1F299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337E-F05E-47F7-883E-84B2CCD1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0A4F-FE8C-4701-A7A6-09EF05A0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E4EC-FE88-4CFA-85D1-2B8AC177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8B83-D35B-4736-95F4-175E135C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06F6-C9CB-44F2-A904-846733B6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BB1B-E3A2-48BC-B2BA-EF1FEEC4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3720-F5C0-494E-9498-124B9091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63C3-C90F-45D9-B4A4-95539667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17E8-0991-48CA-AC19-9C17A840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2A23-1885-406A-956F-D61916B8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208F-EBEA-4A29-BE82-A207E8BB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77E0-A12D-4432-847B-8AB864C8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940B-354B-4DFF-94A2-DDAAF2AC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89DD-08BA-4154-B32B-C30E00C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862B-5491-4236-B39A-F7A945A2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F287-6E0D-49FB-925B-CB785D2D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EB05-1114-4221-8249-BE6B0556B5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8A18-4411-4D65-A26F-B711E9E860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VP of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c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048120"/>
            <a:ext cx="2286000" cy="12189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ed Customer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 En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for correction to custo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004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P of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 Representa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ote Turnaroun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of quotes that become or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 entry err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 January 28th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8:18Z</dcterms:modified>
  <cp:revision>42</cp:revision>
  <dc:subject/>
  <dc:title>SIPOC</dc:title>
</cp:coreProperties>
</file>