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291B0-A343-492F-B55E-42E7B3F2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A99B3-21E0-4DF2-9623-29A9D674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35D5B-199E-44D8-9C02-6AE6B87A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889D3-BDC7-45FA-957D-9036D8BB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671E-B4A2-4631-AC3E-DB014021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019C-4BE5-47EF-B4E7-E1844B88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E498-C7DB-4E5C-AF4E-CBCA20E8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7464-6CEE-4CC6-AEDE-2E20864D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C0CB-F2B9-490F-A9CD-0727AB8F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249B-764B-44CF-BF95-B7851924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1919-E1B4-4C06-A912-0216842A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520D1-B1E6-4D15-99F2-EAEDA5BA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59C0-2436-4C10-8680-728A226A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9217-0DEC-4046-A76E-3F0E9111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9177-B0FC-41E1-A9B4-9092A019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18A9-A696-422A-92FA-70E0C27E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87AE-886C-4BA5-B4FF-4513E9FF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A57D1-C5D3-461C-9FD6-B8D14F5C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5B2CE-12BB-4768-B936-30FA310D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F1CFD-06E0-4AFD-804C-6828E7F8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5EA30-D543-4143-83DD-23F3F628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E4035-8B84-420B-AA8F-938108FF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5CF31-9511-4369-9646-1D874FA2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85265-7C3A-4676-97FC-AB6B89E3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AE1D-8133-4353-A509-F26664666C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45CB-B934-4BEF-9E23-F83C8ADBD4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hyperlink" Target="file:///tmp/home/.config/libreoffice/4/user/gallery/click.wav" TargetMode="External"/><Relationship Id="rId7" Type="http://schemas.openxmlformats.org/officeDocument/2006/relationships/hyperlink" Target="file:///tmp/home/.config/libreoffice/4/user/gallery/click.wav" TargetMode="External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hyperlink" Target="file:///tmp/home/.config/libreoffice/4/user/gallery/click.wav" TargetMode="External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hyperlink" Target="file:///tmp/home/.config/libreoffice/4/user/gallery/click.wav" TargetMode="External"/><Relationship Id="rId12" Type="http://schemas.openxmlformats.org/officeDocument/2006/relationships/hyperlink" Target="file:///tmp/home/.config/libreoffice/4/user/gallery/click.wav" TargetMode="External"/><Relationship Id="rId13" Type="http://schemas.openxmlformats.org/officeDocument/2006/relationships/hyperlink" Target="file:///tmp/home/.config/libreoffice/4/user/gallery/click.wav" TargetMode="External"/><Relationship Id="rId14" Type="http://schemas.openxmlformats.org/officeDocument/2006/relationships/hyperlink" Target="file:///tmp/home/.config/libreoffice/4/user/gallery/click.wav" TargetMode="External"/><Relationship Id="rId15" Type="http://schemas.openxmlformats.org/officeDocument/2006/relationships/hyperlink" Target="file:///tmp/home/.config/libreoffice/4/user/gallery/click.wav" TargetMode="External"/><Relationship Id="rId16" Type="http://schemas.openxmlformats.org/officeDocument/2006/relationships/hyperlink" Target="file:///tmp/home/.config/libreoffice/4/user/gallery/click.wav" TargetMode="External"/><Relationship Id="rId17" Type="http://schemas.openxmlformats.org/officeDocument/2006/relationships/hyperlink" Target="file:///tmp/home/.config/libreoffice/4/user/gallery/click.wav" TargetMode="External"/><Relationship Id="rId18" Type="http://schemas.openxmlformats.org/officeDocument/2006/relationships/hyperlink" Target="file:///tmp/home/.config/libreoffice/4/user/gallery/click.wav" TargetMode="External"/><Relationship Id="rId19" Type="http://schemas.openxmlformats.org/officeDocument/2006/relationships/hyperlink" Target="file:///tmp/home/.config/libreoffice/4/user/gallery/click.wav" TargetMode="External"/><Relationship Id="rId20" Type="http://schemas.openxmlformats.org/officeDocument/2006/relationships/hyperlink" Target="file:///tmp/home/.config/libreoffice/4/user/gallery/click.wav" TargetMode="External"/><Relationship Id="rId21" Type="http://schemas.openxmlformats.org/officeDocument/2006/relationships/hyperlink" Target="file:///tmp/home/.config/libreoffice/4/user/gallery/click.wav" TargetMode="External"/><Relationship Id="rId22" Type="http://schemas.openxmlformats.org/officeDocument/2006/relationships/hyperlink" Target="file:///tmp/home/.config/libreoffice/4/user/gallery/click.wav" TargetMode="External"/><Relationship Id="rId23" Type="http://schemas.openxmlformats.org/officeDocument/2006/relationships/hyperlink" Target="file:///tmp/home/.config/libreoffice/4/user/gallery/click.wav" TargetMode="External"/><Relationship Id="rId24" Type="http://schemas.openxmlformats.org/officeDocument/2006/relationships/hyperlink" Target="file:///tmp/home/.config/libreoffice/4/user/gallery/click.wav" TargetMode="External"/><Relationship Id="rId25" Type="http://schemas.openxmlformats.org/officeDocument/2006/relationships/hyperlink" Target="file:///tmp/home/.config/libreoffice/4/user/gallery/click.wav" TargetMode="External"/><Relationship Id="rId26" Type="http://schemas.openxmlformats.org/officeDocument/2006/relationships/hyperlink" Target="file:///tmp/home/.config/libreoffice/4/user/gallery/click.wav" TargetMode="External"/><Relationship Id="rId27" Type="http://schemas.openxmlformats.org/officeDocument/2006/relationships/hyperlink" Target="file:///tmp/home/.config/libreoffice/4/user/gallery/click.wav" TargetMode="External"/><Relationship Id="rId28" Type="http://schemas.openxmlformats.org/officeDocument/2006/relationships/hyperlink" Target="file:///tmp/home/.config/libreoffice/4/user/gallery/click.wav" TargetMode="External"/><Relationship Id="rId2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cess Ma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5562720"/>
            <a:ext cx="24382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b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p:transition advTm="1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mpany Name – Process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89480" y="389412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3048120"/>
            <a:ext cx="1066680" cy="1523880"/>
          </a:xfrm>
          <a:prstGeom prst="flowChartProcess">
            <a:avLst/>
          </a:prstGeom>
          <a:solidFill>
            <a:srgbClr val="33cccc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p:transition advTm="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mpany Name – Process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3048120"/>
            <a:ext cx="4496040" cy="30477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3200400"/>
            <a:ext cx="1066680" cy="4572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3200400"/>
            <a:ext cx="1067040" cy="4572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3200400"/>
            <a:ext cx="1066680" cy="4572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389412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3048120"/>
            <a:ext cx="1066680" cy="1523880"/>
          </a:xfrm>
          <a:prstGeom prst="flowChartProcess">
            <a:avLst/>
          </a:prstGeom>
          <a:solidFill>
            <a:srgbClr val="33cccc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35268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p:transition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mpany Name – Process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3048120"/>
            <a:ext cx="4496040" cy="30477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200400"/>
            <a:ext cx="1066680" cy="4572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3200400"/>
            <a:ext cx="1067040" cy="4572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3200400"/>
            <a:ext cx="1066680" cy="4572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42670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47242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51814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56386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rcha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5638680"/>
            <a:ext cx="76176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2680" y="38098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ali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89480" y="389412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495680" y="36572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11480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1148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114800" y="4419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1148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12372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62920" y="3048120"/>
            <a:ext cx="1066680" cy="1523880"/>
          </a:xfrm>
          <a:prstGeom prst="flowChartProcess">
            <a:avLst/>
          </a:prstGeom>
          <a:solidFill>
            <a:srgbClr val="33cccc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35268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p:transition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mpany Name – Process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3048120"/>
            <a:ext cx="4496040" cy="30477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200400"/>
            <a:ext cx="1066680" cy="4572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3200400"/>
            <a:ext cx="1067040" cy="4572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3200400"/>
            <a:ext cx="1066680" cy="4572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3809880"/>
            <a:ext cx="76176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4191120"/>
            <a:ext cx="76176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rew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4572000"/>
            <a:ext cx="76176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4952880"/>
            <a:ext cx="76176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5334120"/>
            <a:ext cx="76176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4191120"/>
            <a:ext cx="76212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4572000"/>
            <a:ext cx="76212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4952880"/>
            <a:ext cx="762120" cy="38124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en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67280" y="5486400"/>
            <a:ext cx="762120" cy="38088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42670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47242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51814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56386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rcha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5638680"/>
            <a:ext cx="76176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38098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ali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89480" y="389412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495680" y="36572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11480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1148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114800" y="4419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1148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791320" y="36572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5715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410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5029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4648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4267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3886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5105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47242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43434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12372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162920" y="3048120"/>
            <a:ext cx="1066680" cy="1523880"/>
          </a:xfrm>
          <a:prstGeom prst="flowChartProcess">
            <a:avLst/>
          </a:prstGeom>
          <a:solidFill>
            <a:srgbClr val="33cccc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24480" y="335268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p:transition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mpany Name – Process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1905120"/>
            <a:ext cx="4953240" cy="426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3048120"/>
            <a:ext cx="4496040" cy="30477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3200400"/>
            <a:ext cx="1066680" cy="4572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067040" cy="4572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57800" y="3200400"/>
            <a:ext cx="1066680" cy="4572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2590920"/>
            <a:ext cx="990360" cy="380880"/>
          </a:xfrm>
          <a:prstGeom prst="rect">
            <a:avLst/>
          </a:prstGeom>
          <a:solidFill>
            <a:srgbClr val="cc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ima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62320" y="1981080"/>
            <a:ext cx="990360" cy="381240"/>
          </a:xfrm>
          <a:prstGeom prst="rect">
            <a:avLst/>
          </a:prstGeom>
          <a:solidFill>
            <a:srgbClr val="cc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es &am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3809880"/>
            <a:ext cx="76176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76920" y="4191120"/>
            <a:ext cx="76176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rew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4572000"/>
            <a:ext cx="76176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4952880"/>
            <a:ext cx="76176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5334120"/>
            <a:ext cx="76176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4191120"/>
            <a:ext cx="76212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572000"/>
            <a:ext cx="76212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7280" y="4952880"/>
            <a:ext cx="762120" cy="38124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en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5486400"/>
            <a:ext cx="762120" cy="38088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42670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47242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51814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52680" y="56386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rcha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5638680"/>
            <a:ext cx="76176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38098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ali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89480" y="389412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3623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29718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7692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495680" y="36572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11480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1148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114800" y="4419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1148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791320" y="36572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91320" y="5715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5410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5029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4648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4267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38680" y="3886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91320" y="5105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91320" y="47242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91320" y="43434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12372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3048120"/>
            <a:ext cx="1066680" cy="1523880"/>
          </a:xfrm>
          <a:prstGeom prst="flowChartProcess">
            <a:avLst/>
          </a:prstGeom>
          <a:solidFill>
            <a:srgbClr val="33cccc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335268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p:transition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62120" y="1828800"/>
            <a:ext cx="91440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mpany Name – Process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828800"/>
            <a:ext cx="7772400" cy="441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1905120"/>
            <a:ext cx="4953240" cy="426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09680" y="3048120"/>
            <a:ext cx="4496040" cy="30477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3200400"/>
            <a:ext cx="1066680" cy="4572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3200400"/>
            <a:ext cx="1067040" cy="4572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257800" y="3200400"/>
            <a:ext cx="1066680" cy="4572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62320" y="2590920"/>
            <a:ext cx="990360" cy="380880"/>
          </a:xfrm>
          <a:prstGeom prst="rect">
            <a:avLst/>
          </a:prstGeom>
          <a:solidFill>
            <a:srgbClr val="cc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ima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62320" y="1981080"/>
            <a:ext cx="990360" cy="381240"/>
          </a:xfrm>
          <a:prstGeom prst="rect">
            <a:avLst/>
          </a:prstGeom>
          <a:solidFill>
            <a:srgbClr val="cc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es &am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2286000"/>
            <a:ext cx="838440" cy="38088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2819520"/>
            <a:ext cx="838440" cy="38088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3352680"/>
            <a:ext cx="838440" cy="38124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3886200"/>
            <a:ext cx="838440" cy="38088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4419720"/>
            <a:ext cx="838440" cy="38088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d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4952880"/>
            <a:ext cx="838440" cy="38124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5486400"/>
            <a:ext cx="838440" cy="38088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en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3809880"/>
            <a:ext cx="76176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191120"/>
            <a:ext cx="76176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rew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4572000"/>
            <a:ext cx="76176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76920" y="4952880"/>
            <a:ext cx="76176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76920" y="5334120"/>
            <a:ext cx="76176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4191120"/>
            <a:ext cx="76212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4572000"/>
            <a:ext cx="76212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4952880"/>
            <a:ext cx="762120" cy="38124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en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5486400"/>
            <a:ext cx="762120" cy="38088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42670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47242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2680" y="51814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56386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rcha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62320" y="5638680"/>
            <a:ext cx="76176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8098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ali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89480" y="389412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23623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29718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2900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7692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76520" y="236232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76520" y="28954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76520" y="34290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396252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76520" y="44956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76520" y="50292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676520" y="556272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495680" y="36572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11480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1148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114800" y="4419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1148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791320" y="36572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1320" y="5715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5410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5029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638680" y="4648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4267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638680" y="3886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5105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91320" y="47242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91320" y="43434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12372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3048120"/>
            <a:ext cx="1066680" cy="1523880"/>
          </a:xfrm>
          <a:prstGeom prst="flowChartProcess">
            <a:avLst/>
          </a:prstGeom>
          <a:solidFill>
            <a:srgbClr val="33cccc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24480" y="335268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p:transition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762120" y="1828800"/>
            <a:ext cx="91440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mpany Name – Process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1828800"/>
            <a:ext cx="7772400" cy="441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05120"/>
            <a:ext cx="4953240" cy="426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09680" y="3048120"/>
            <a:ext cx="4496040" cy="30477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914400"/>
            <a:ext cx="1447560" cy="609480"/>
          </a:xfrm>
          <a:prstGeom prst="flowChartProcess">
            <a:avLst/>
          </a:prstGeom>
          <a:solidFill>
            <a:srgbClr val="33cccc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162920" y="3048120"/>
            <a:ext cx="1066680" cy="1523880"/>
          </a:xfrm>
          <a:prstGeom prst="flowChartProcess">
            <a:avLst/>
          </a:prstGeom>
          <a:solidFill>
            <a:srgbClr val="33cccc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rId1"/>
          </p:cNvPr>
          <p:cNvSpPr/>
          <p:nvPr/>
        </p:nvSpPr>
        <p:spPr>
          <a:xfrm>
            <a:off x="3200400" y="914400"/>
            <a:ext cx="1447920" cy="609480"/>
          </a:xfrm>
          <a:prstGeom prst="flowChartProcess">
            <a:avLst/>
          </a:prstGeom>
          <a:solidFill>
            <a:srgbClr val="33cccc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usiness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2"/>
          </p:cNvPr>
          <p:cNvSpPr/>
          <p:nvPr/>
        </p:nvSpPr>
        <p:spPr>
          <a:xfrm>
            <a:off x="5181480" y="914400"/>
            <a:ext cx="1447920" cy="609480"/>
          </a:xfrm>
          <a:prstGeom prst="flowChartProcess">
            <a:avLst/>
          </a:prstGeom>
          <a:solidFill>
            <a:srgbClr val="33cccc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rId3"/>
          </p:cNvPr>
          <p:cNvSpPr/>
          <p:nvPr/>
        </p:nvSpPr>
        <p:spPr>
          <a:xfrm>
            <a:off x="2362320" y="3200400"/>
            <a:ext cx="1066680" cy="4572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09880" y="3200400"/>
            <a:ext cx="1067040" cy="4572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57800" y="3200400"/>
            <a:ext cx="1066680" cy="4572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4"/>
          </p:cNvPr>
          <p:cNvSpPr/>
          <p:nvPr/>
        </p:nvSpPr>
        <p:spPr>
          <a:xfrm>
            <a:off x="2362320" y="2590920"/>
            <a:ext cx="990360" cy="380880"/>
          </a:xfrm>
          <a:prstGeom prst="rect">
            <a:avLst/>
          </a:prstGeom>
          <a:solidFill>
            <a:srgbClr val="cc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ima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5"/>
          </p:cNvPr>
          <p:cNvSpPr/>
          <p:nvPr/>
        </p:nvSpPr>
        <p:spPr>
          <a:xfrm>
            <a:off x="2362320" y="1981080"/>
            <a:ext cx="990360" cy="381240"/>
          </a:xfrm>
          <a:prstGeom prst="rect">
            <a:avLst/>
          </a:prstGeom>
          <a:solidFill>
            <a:srgbClr val="cc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es &am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6"/>
          </p:cNvPr>
          <p:cNvSpPr/>
          <p:nvPr/>
        </p:nvSpPr>
        <p:spPr>
          <a:xfrm>
            <a:off x="838080" y="2286000"/>
            <a:ext cx="838440" cy="38088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rId7"/>
          </p:cNvPr>
          <p:cNvSpPr/>
          <p:nvPr/>
        </p:nvSpPr>
        <p:spPr>
          <a:xfrm>
            <a:off x="838080" y="2819520"/>
            <a:ext cx="838440" cy="38088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8"/>
          </p:cNvPr>
          <p:cNvSpPr/>
          <p:nvPr/>
        </p:nvSpPr>
        <p:spPr>
          <a:xfrm>
            <a:off x="838080" y="3352680"/>
            <a:ext cx="838440" cy="38124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rId9"/>
          </p:cNvPr>
          <p:cNvSpPr/>
          <p:nvPr/>
        </p:nvSpPr>
        <p:spPr>
          <a:xfrm>
            <a:off x="838080" y="3886200"/>
            <a:ext cx="838440" cy="38088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rId10"/>
          </p:cNvPr>
          <p:cNvSpPr/>
          <p:nvPr/>
        </p:nvSpPr>
        <p:spPr>
          <a:xfrm>
            <a:off x="838080" y="4419720"/>
            <a:ext cx="838440" cy="38088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d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>
            <a:hlinkClick r:id="rId11"/>
          </p:cNvPr>
          <p:cNvSpPr/>
          <p:nvPr/>
        </p:nvSpPr>
        <p:spPr>
          <a:xfrm>
            <a:off x="838080" y="4952880"/>
            <a:ext cx="838440" cy="38124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rId12"/>
          </p:cNvPr>
          <p:cNvSpPr/>
          <p:nvPr/>
        </p:nvSpPr>
        <p:spPr>
          <a:xfrm>
            <a:off x="838080" y="5486400"/>
            <a:ext cx="838440" cy="38088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en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rId13"/>
          </p:cNvPr>
          <p:cNvSpPr/>
          <p:nvPr/>
        </p:nvSpPr>
        <p:spPr>
          <a:xfrm>
            <a:off x="4876920" y="3809880"/>
            <a:ext cx="76176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rId14"/>
          </p:cNvPr>
          <p:cNvSpPr/>
          <p:nvPr/>
        </p:nvSpPr>
        <p:spPr>
          <a:xfrm>
            <a:off x="4876920" y="4191120"/>
            <a:ext cx="76176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rew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>
            <a:hlinkClick r:id="rId15"/>
          </p:cNvPr>
          <p:cNvSpPr/>
          <p:nvPr/>
        </p:nvSpPr>
        <p:spPr>
          <a:xfrm>
            <a:off x="4876920" y="4572000"/>
            <a:ext cx="76176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16"/>
          </p:cNvPr>
          <p:cNvSpPr/>
          <p:nvPr/>
        </p:nvSpPr>
        <p:spPr>
          <a:xfrm>
            <a:off x="4876920" y="4952880"/>
            <a:ext cx="76176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rId17"/>
          </p:cNvPr>
          <p:cNvSpPr/>
          <p:nvPr/>
        </p:nvSpPr>
        <p:spPr>
          <a:xfrm>
            <a:off x="4876920" y="5334120"/>
            <a:ext cx="76176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rId18"/>
          </p:cNvPr>
          <p:cNvSpPr/>
          <p:nvPr/>
        </p:nvSpPr>
        <p:spPr>
          <a:xfrm>
            <a:off x="5867280" y="4191120"/>
            <a:ext cx="76212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rId19"/>
          </p:cNvPr>
          <p:cNvSpPr/>
          <p:nvPr/>
        </p:nvSpPr>
        <p:spPr>
          <a:xfrm>
            <a:off x="5867280" y="4572000"/>
            <a:ext cx="76212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rId20"/>
          </p:cNvPr>
          <p:cNvSpPr/>
          <p:nvPr/>
        </p:nvSpPr>
        <p:spPr>
          <a:xfrm>
            <a:off x="5867280" y="4952880"/>
            <a:ext cx="762120" cy="38124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en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rId21"/>
          </p:cNvPr>
          <p:cNvSpPr/>
          <p:nvPr/>
        </p:nvSpPr>
        <p:spPr>
          <a:xfrm>
            <a:off x="5867280" y="5486400"/>
            <a:ext cx="762120" cy="38088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rId22"/>
          </p:cNvPr>
          <p:cNvSpPr/>
          <p:nvPr/>
        </p:nvSpPr>
        <p:spPr>
          <a:xfrm>
            <a:off x="3352680" y="42670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rId23"/>
          </p:cNvPr>
          <p:cNvSpPr/>
          <p:nvPr/>
        </p:nvSpPr>
        <p:spPr>
          <a:xfrm>
            <a:off x="3352680" y="47242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rId24"/>
          </p:cNvPr>
          <p:cNvSpPr/>
          <p:nvPr/>
        </p:nvSpPr>
        <p:spPr>
          <a:xfrm>
            <a:off x="3352680" y="51814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rId25"/>
          </p:cNvPr>
          <p:cNvSpPr/>
          <p:nvPr/>
        </p:nvSpPr>
        <p:spPr>
          <a:xfrm>
            <a:off x="3352680" y="56386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rcha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rId26"/>
          </p:cNvPr>
          <p:cNvSpPr/>
          <p:nvPr/>
        </p:nvSpPr>
        <p:spPr>
          <a:xfrm>
            <a:off x="2362320" y="5638680"/>
            <a:ext cx="76176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27"/>
          </p:cNvPr>
          <p:cNvSpPr/>
          <p:nvPr/>
        </p:nvSpPr>
        <p:spPr>
          <a:xfrm>
            <a:off x="3352680" y="38098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ali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89480" y="389412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752480" y="1523880"/>
            <a:ext cx="3812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733920" y="15238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4120" y="15238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19920" y="1523880"/>
            <a:ext cx="38088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666880" y="1066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48320" y="106668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43200" y="23623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43200" y="29718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2900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324480" y="335268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76520" y="236232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76520" y="28954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76520" y="34290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76520" y="396252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76520" y="44956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676520" y="50292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76520" y="556272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4495680" y="36572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411480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41148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4114800" y="4419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41148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5791320" y="36572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791320" y="5715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638680" y="5410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38680" y="5029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638680" y="4648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638680" y="4267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638680" y="3886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791320" y="5105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791320" y="47242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43434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2372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endshow"/>
            <a:hlinkClick r:id="rId28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86200" y="2362320"/>
            <a:ext cx="266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Tahoma"/>
              </a:rPr>
              <a:t>Click on “Process” or “Hyperlinks” for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autoRev="1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animClr clrSpc="rgb">
                                      <p:cBhvr>
                                        <p:cTn id="7" dur="500" autoRev="1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Pedeville</dc:creator>
  <dc:description/>
  <dc:language>en-US</dc:language>
  <cp:lastModifiedBy>GS</cp:lastModifiedBy>
  <dcterms:modified xsi:type="dcterms:W3CDTF">2005-04-14T12:26:44Z</dcterms:modified>
  <cp:revision>84</cp:revision>
  <dc:subject/>
  <dc:title>Advance Screw Products Corporation</dc:title>
</cp:coreProperties>
</file>