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89D9-656A-43E1-86A4-3BBE5B40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C215-DD64-44A3-AD83-013D7E9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D324-121E-49FD-AF75-DD6EDC27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8039-B74A-48F3-B9D7-431E61B5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52DC-E692-49DD-9988-D815DEDB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5C66-EAF6-4ACD-A066-093B6544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09E9-B7EE-44A3-8FF8-1A0CD0F4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D8F5-DFB8-4F08-815E-20372501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6C84-5652-4940-ADF4-3A86570D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4BD1-7FEB-4D18-B5ED-CDE67920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B82B-4378-4B79-9EA0-C379DD13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233BE-9C99-4EE7-AE8E-217C4B76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A92F-F245-4E56-A469-EA04C123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1DF8-6A04-4989-8F1C-04958CE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F6D-1E4F-4B17-81CA-12C40BDE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84FA-2C65-47BE-8F05-34B321DB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C017-D3DD-4F64-88EE-5305A9E0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5FCA-895D-45B3-8F58-6DA9F1C4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34B2-C9ED-4720-9CD1-4894E0B3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4B49-F4E1-4FF4-A276-93E3B262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BFFC-7B2E-4B86-BC22-F0D1F7E7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BF8E-C96B-4E41-808A-D9F95C02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F815-C081-4F2F-A4DF-CE10824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7753-4D8D-4E59-9AFC-96D96CFF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6AFD-907E-40A4-93D8-66431187F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B15C-FD51-488D-9B33-55444F931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Qual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erials Recei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Processes Recei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in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Article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Service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ability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side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ement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l Audit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 of Quality: Reduction in appraisal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MEA - reduction in avg. D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C - Cpk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: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4:09Z</dcterms:modified>
  <cp:revision>39</cp:revision>
  <dc:subject/>
  <dc:title>SIPOC</dc:title>
</cp:coreProperties>
</file>