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21E3D-CBFF-4DAE-B14C-5EA206D4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3DF23-D5BF-499F-8FE9-310B02EA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E4E5B-74BF-4068-887A-1F0B0B12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5AB6D-CEF8-4DC0-906F-B3CFFF00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123A-EA5B-4ACD-B6EA-AFD805C9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C671-A158-4DF3-B5BB-6AE0B9C7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E7CC-4D51-4335-AB81-3765700D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02B5-78B0-4E09-AF7D-E8454C70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8FBC-C088-4A53-9049-EED6447A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4131-A630-4BF2-BA62-6939AEFF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A29C-6B00-4B5A-B098-27662A05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824E-A4B9-4CC3-A3CE-7F796352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E2B8-07EF-4F47-AAB7-BAB1C377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165B-A877-4969-A7A3-473D8ECA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58D9-AE6C-4C4D-B4F0-3F002CC5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F774-E054-4821-87E4-34F62F98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4656-AA67-49DE-ABC6-05333054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9E07C-02F7-4FF4-B72F-45BB5896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D66E9-D55C-42FB-93F9-06CD979E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93B94-C157-487C-85EA-24682332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5FD53-6493-4792-9B80-BF1BC82E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B22B6-A788-44E8-98EC-805659B2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F123F-B088-48EB-9183-9307C6A7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7B95D-6623-487E-B6E0-AC47CA9F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3FF4-6639-41BB-A2D0-130720B0D6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9639-5B9D-43D5-838C-82DA7E03FC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60948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Operations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4290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entor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rew Mach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447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w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d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eased Mate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ntory Cou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rew Mach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ipp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6360" y="11430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erials Handl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sta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ing Sc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ntory Audit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ntory $$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ycle count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ntory Tur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8840" y="45720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ion: January 28, 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13:09Z</dcterms:modified>
  <cp:revision>41</cp:revision>
  <dc:subject/>
  <dc:title>SIPOC</dc:title>
</cp:coreProperties>
</file>