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00ED9-23E9-49C9-A295-F1F8D402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1B3F9-93D8-42D7-987B-8E234447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18C5F-9534-4A5E-9D80-C5E7F048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792F4-336B-4F51-9754-C881A6BA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5CA8-CECA-4565-96A4-EA5FB24E5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B396-C7D4-41B9-B789-51D7C135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5B96-F232-4F87-9129-21E036A7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5200-79E6-4131-BA2F-F69B6194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158F-619E-475F-A334-4A3A34DB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AE0E-DD09-45BC-BFC9-FD31CA39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D806-66F2-4F3D-95FD-FC603332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8B384-45DD-4C10-B218-F22384FE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22D3-5878-4B60-B97A-342EEB8B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4D8B-70B4-4861-8C86-E9EBC3E2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7FF9-794D-458B-87D9-4FC487EF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BF4F-3802-4970-B149-7B53D89F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A062-28CD-42ED-BB9F-DC9D6218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EAA51-8DE4-4446-8E25-5950AB48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43486-DF37-4022-AAB8-11920A66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0F67B-2B1E-4D5A-B1EA-9DE05B86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52FCD-1AD6-4DEF-AA69-50C751C2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35306-CAF6-4571-901A-956E1E65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CFA10-A10C-40E9-86C0-51F8AC4E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58F56-D935-4DA9-A2A0-EF1BF0F4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56CE-17A7-4AFF-BAAE-F67B74B417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CDB5-8AB7-45A8-A988-AB6F49FFBD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" action="ppaction://hlinkshowjump?jump=endshow"/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cess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2971800"/>
            <a:ext cx="2743200" cy="1295280"/>
          </a:xfrm>
          <a:prstGeom prst="bevel">
            <a:avLst>
              <a:gd name="adj" fmla="val 12500"/>
            </a:avLst>
          </a:prstGeom>
          <a:solidFill>
            <a:srgbClr val="00007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31240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60948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Process Owner: </a:t>
            </a:r>
            <a:r>
              <a:rPr b="0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President &amp;      Management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5053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siness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53360" y="1050840"/>
            <a:ext cx="120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pli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(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0481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wner strategic go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 Expec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23640" y="2639880"/>
            <a:ext cx="9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30481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umented Business 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447920"/>
            <a:ext cx="2286000" cy="1143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stomer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ck Hol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7240" y="10396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tomer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44280" y="2639880"/>
            <a:ext cx="10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put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137160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4479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1447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1143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6000" y="114300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ho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id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ment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9480" y="45720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876920"/>
            <a:ext cx="2741760" cy="1143000"/>
          </a:xfrm>
          <a:prstGeom prst="rect">
            <a:avLst/>
          </a:pr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ility to plan for and achieve improvement targ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8840" y="457200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ion January 28th, 2005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8:43:24Z</dcterms:created>
  <dc:creator>Glenn Schnauber</dc:creator>
  <dc:description/>
  <dc:language>en-US</dc:language>
  <cp:lastModifiedBy>GS</cp:lastModifiedBy>
  <dcterms:modified xsi:type="dcterms:W3CDTF">2005-04-14T13:19:35Z</dcterms:modified>
  <cp:revision>40</cp:revision>
  <dc:subject/>
  <dc:title>SIPOC</dc:title>
</cp:coreProperties>
</file>