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1C62-A099-4449-B83A-529B1267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49C92-B2E5-4436-9E4B-DA9EBAA3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079F-BAB3-48D7-BBCB-FCC276D6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E76C-ABBD-4A93-8A71-308E322F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CD0B-7D95-440A-87F9-E852D959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3812-5DCE-4F12-A164-FA293686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B276-B8FF-4F11-865A-CA38E189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D01A-44EC-4B98-8EA4-653FFD87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101D-444B-41BE-B9DF-341508FC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DA2E-E220-4C1E-93AA-01E0ACC0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3444-4592-4947-B07F-71C2FA80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7E70-605A-4EC5-97B6-3E6AB700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F800-6FE1-446D-979C-7A958FFA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9A9B-E641-46B4-A784-8289F99B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445F-F377-4F46-8025-32FA1FD4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AE44-3404-47DD-BCAE-A63857EA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F583-1A4B-446B-97E5-4B0F547B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C03B-9C42-4075-ADE4-617763D8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7E78-ADEE-4D14-84B3-F31CA374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7764-5D7D-4568-A9F6-33444B1C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B7FCC-36E4-4BB8-AE9A-AD58C41A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01A4-37AC-4980-B343-CBDF6BD3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9654-013B-497E-A116-7EF5ABD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D043-50E9-49C6-85BB-D7011BA6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7CA7-D571-41F9-95A3-FB0DA6F4B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84ED-2DD9-4B96-BB01-0ECE1835CC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09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Operations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eduled Shipments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d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ing Sl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ta Shipments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Custome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Receiv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s Hand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rcode/Labeling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ng Sc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Delivery Performance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05:37Z</dcterms:modified>
  <cp:revision>41</cp:revision>
  <dc:subject/>
  <dc:title>SIPOC</dc:title>
</cp:coreProperties>
</file>