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1E10-DB8C-403A-B124-543469F3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0646-276E-48F4-A50B-01ADFCE8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8948-44A9-417B-8EC1-FB08CFA2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DF14-FA17-4F94-8F80-11A61863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40F-D407-4BA6-A222-BEA69349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195-F10B-45B9-8FBB-B7869492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9B58-BCE0-49A7-B7A7-D50A2A73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53C-D7E4-4388-A666-F9DB5AF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D119-7B9C-4C24-B57A-C248BBD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2534-AD0D-49D3-842D-A4549EE6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ABEC-1FDC-4FF5-838F-CFE166A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37B7-04F6-41B7-8E4A-89708568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CCDB-EA8E-4EA0-B292-8425D36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10CB-E19F-4B5B-8CF5-DB10A609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FB84-ACDA-4D52-BAFD-05F7824E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FED4-77CD-411A-A03F-C7426A84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7CF3-F8F5-4A07-B900-52988772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8D12-BA24-4522-B88D-EE74B9F0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0509-2B16-418E-BFB6-00863491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A112-389E-4EAC-ABCA-5B7F48A8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0EEA6-E014-4727-9A55-089E59CF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CCD2-F1C6-4590-8C25-A1230E6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9716-5D23-4C98-9B9D-F4EBCEF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583B-7198-4B87-BD63-AF8E6A26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18D9-5D19-4E4D-8175-768C353352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BEA6-B67F-46F2-BAC6-6EF9FAD91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Quality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b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facturing Perso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447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ion Inspection Equi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ed Equi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bration I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06668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ge Trak Soft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y Calibrations (Past due Repo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&amp;R Study Results &lt;10% of tole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 January 28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8:41Z</dcterms:modified>
  <cp:revision>43</cp:revision>
  <dc:subject/>
  <dc:title>SIPOC</dc:title>
</cp:coreProperties>
</file>