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C28D-CD6A-4550-B916-AA3A1FD9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394C-D215-4277-93B3-8674567C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8C08-C9F7-4088-997B-2AF9E56E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83F7-66A3-46C2-98CD-A9FCEAC8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E8D3-958B-456C-A344-4FF67DCB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D8F7-1500-44B7-829E-D5D73E83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6363-3D37-47A3-B7FF-536536B5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6E6A-9153-4989-A60A-4BE9771F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372E-FA1B-4692-B475-1051BB4C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0DD6-191D-4B0E-A408-3526116A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C489-1753-45C9-97DA-0101824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4081E-3F30-4037-A1A2-3E75BB0E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4E0E-239D-42A9-B8C8-A18624CF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8201-5F39-45F7-87F6-F67A2C56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5289-DA72-4EB2-B42B-D161DAED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FCDD-8CF2-4D3E-8B70-7419C549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A717-FC4F-4FF9-96DE-E3F3145B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0F65-A1E3-43A8-8F83-07E281AA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0420-4586-49A8-AA1B-95957DCD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6D45-CADC-457E-A297-CD914E97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C86F-CCC3-4B8D-B948-C269A23C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361A7-F8A0-457B-8AE5-E766CAEB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14BD-04E0-4B88-87C6-765D648E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C8AD-78CA-4453-9A15-FB27FFD2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E44E-40E6-4FA8-8C44-BCC7D435BE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0369-26C8-42C5-BA4E-EE6DB33DD9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609480"/>
            <a:ext cx="40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Human Resources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vi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rnal Training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 Ne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ment Employee Competency Matr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etent Workfo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ive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dated Competency Matr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Team &amp; Process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vi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 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 Evaluation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HA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Manual &amp; QMS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fied Trai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rnal Training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g. competency rating per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g. competency score per employ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g. scores from Training Evaluation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ational competency s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49568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1:47:00Z</dcterms:modified>
  <cp:revision>41</cp:revision>
  <dc:subject/>
  <dc:title>SIPOC</dc:title>
</cp:coreProperties>
</file>