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5EA21-0C17-4B0A-B276-2981845F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E4F64-074E-4696-A435-2EFC66A4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0EDB-35E1-4B2E-9C2B-08BFD2A2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483B-0A65-4D90-9620-7322C450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8DA6-32D9-4209-B09C-C188EAE6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D419-370D-45D2-B1E4-32A9B25E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3F0-AB11-4EC9-A934-89E92E55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B062-104C-4724-BAC4-589FDD9D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C7EE-5266-4A00-A850-19AEDD13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9170-B7D1-4556-AF0D-13F80F80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C579-F7FE-41E6-AC86-184E271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A3F5-0C65-4DD3-BE66-FA9C497C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F303-EDB6-4451-BB84-C0065127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FCBB-1D70-4895-859F-09DFD595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B337-55AD-46DB-B69E-65AFFBA2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616B-AA88-4CAA-99B4-4660BA66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18F5-762C-47D5-8BD7-6849671C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C531-7E31-481C-BAE0-678FBE8C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E77C5-4C91-4CCB-89F2-4AA35004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FBC28-C0F7-4BAA-8A4A-597A4856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7357-CF34-469F-B6F2-7CA70A0C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6169-077F-4E68-9025-CE33069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6D9FE-12B1-4020-A21B-9AC24B83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5923-1B92-46C8-9516-5C116EEC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E6F1-0552-42EF-B494-4EA37401E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17E7-3778-4A3A-8EE9-C1F474866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Pres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ipping Depar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218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ta Shipment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endor Packing Sl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ing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s Payable Invo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ts Payable Aging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s Issu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004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3716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ing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achtree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edi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ta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Ch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ing Fi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ables Aging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ables Aging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: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5:28Z</dcterms:modified>
  <cp:revision>41</cp:revision>
  <dc:subject/>
  <dc:title>SIPOC</dc:title>
</cp:coreProperties>
</file>