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6FB00-2F7A-467B-A568-AE037E47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BAF9-D507-457F-A624-8E470BB2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AEA8-46D2-477A-AF00-0CD2174C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D359-DDCC-4EF4-B7BD-C27DA7FE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2285-CE02-4EE3-BC24-5CB759BE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C6F1-C0E1-4388-B4AA-8454F97F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0D82-DC1B-4808-8F92-2BEDCC1B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5921-779B-411B-9437-1D86B21D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BA73-67A1-4A13-B9E1-FE17F7C3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41BD-3193-4E5C-B8D2-BB9870DB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4DC4-08D9-4E24-99EE-D37AA8B0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5C0F-1ED9-4D72-8CE5-80700EA1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AC4D-9FA5-41B4-96CB-0289587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7917-DB9F-4E83-8A53-A6CD2589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B0DB-45C0-4293-BE88-2DA76E19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8F0-F857-462F-B422-788CBB77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1033-002A-4843-B6A0-D338DA3C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94BB-59A6-44B5-AD9B-D5323114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7892-5795-4E17-BA3F-997C85AF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AA3E-522D-43A6-813B-6AEEEDB1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67E6-B7CA-4644-8F5B-5FA163AC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67BB-66DF-4BEE-BFB2-D90F3D2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34819-2EED-456C-A915-78E68C35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683D-935C-420B-B899-F3DC8118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B6A4-6CAC-41D1-AC27-FAED36EC9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045B-D872-49FB-BD9B-9B8E422BE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09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Operation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w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d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3716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s Hand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ta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ng Sc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8:36Z</dcterms:modified>
  <cp:revision>41</cp:revision>
  <dc:subject/>
  <dc:title>SIPOC</dc:title>
</cp:coreProperties>
</file>