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E641E-131B-4F65-8629-3616EFEC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3CFD-20F2-45DD-B7A4-1C57A32B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4011-4CBB-4EB5-BAB8-7C74A0CB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CEA16-7073-48D4-9200-FD424081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B47D-636B-4E7E-AD8D-7866FFA3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3119-F209-4D53-83A5-F739311C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6FCD-99FE-4613-905E-DF460716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1757-1768-4759-9165-0D0EB6E9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080C-DC16-4160-B5A2-351679E4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CF10-3F8D-4953-A062-B9156A4A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359F-6470-4C36-9516-B11FEE7F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F8FDF-1EE6-4126-A62F-F513EEF5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8625-BCA8-4850-B0DA-E4E421D2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0CDA-FD07-4DE0-B2DE-D27109C3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65FC-B2E9-4753-B2E3-7AD66F11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8D4C-90F7-41EE-9B94-38746B7F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B3D9-C7D2-4B10-929E-BF0D6B87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4DF6-7DCC-4FEF-B342-5DA5BDEC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B92F-59B1-445A-B280-FE62634F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7C805-C9D5-4DE9-AFA3-41C56DD0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CB82D-FAF5-45CD-8E3D-6B93B3FB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D33BE-1750-4019-A500-4CDAAE79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CD44-F28B-42CF-920D-E587C9C9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07BF-DF9A-4965-932F-2A015F5A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7A59-4AE3-4704-A505-1B3DAECCBA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082D-C085-4096-B934-DA3A761FC4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609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VP of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35268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es &amp;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2189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es &amp; Marketing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ance Ow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P of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es Representa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ing Me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07:45Z</dcterms:modified>
  <cp:revision>39</cp:revision>
  <dc:subject/>
  <dc:title>SIPOC</dc:title>
</cp:coreProperties>
</file>