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3140-CE18-4AD4-B1A2-650666A2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7D27-10CF-4A15-B3D5-6EF6F141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DBA6-5885-4E29-A925-EDC76D33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38CC9-1A56-4B18-96C8-B9CF75F3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DB3F-8E02-4FA5-8AC7-E9818311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121C-7C9C-455F-B233-2ED08220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F28A-C0DB-4C6B-8F9B-B6034BC7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E366-F8BF-4230-A028-D4B0CFC8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81A6-324F-4544-A636-BD1AFAC0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5BE8-3A01-404A-A281-307F1122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2CB9-096D-4C06-858B-6A95174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BA23-0774-43DC-ACAB-1DC0931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9116-97C2-481B-B43B-379EFFD7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FF5A-C1E7-4AE1-AEE6-62DEEC72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45EA-065B-4A74-8E42-36DCE024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2E03-8F56-4969-AD8B-FC2E6D91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3A80-5007-499C-82D7-C8A44EBD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BCBB-C9D0-4ED1-AAE5-360FF77E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F57B-18D9-4158-8423-490FDC03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0490-BE9C-4CD1-98E8-8802827E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64FB-2042-4755-A255-E26E29C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92B1-81B3-4DED-B71B-85FBA9B9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F08B-E296-4D65-98AE-3FC27E7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B6C4-8AEC-4F17-940B-26D33E24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4033-43D3-4763-AADF-5E93FA0D3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9709-FB8F-4BBD-846B-96CF8563E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Pres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3526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523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Performanc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Measuremen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l Audit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ve Action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523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on I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vement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 Development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MS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ance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lanced Scorec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Review Data Sh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achieve Quality Objec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: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2:43Z</dcterms:modified>
  <cp:revision>37</cp:revision>
  <dc:subject/>
  <dc:title>SIPOC</dc:title>
</cp:coreProperties>
</file>