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679E-6843-4300-831C-882BD9A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20106-E49B-4A47-83F1-AB58151E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5C26-342B-42B4-B77F-62CE36C5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F0E2-2D4C-4B36-B155-53AA78F6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A703-B8DD-4685-BB45-B6564E9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59E9-BFE1-4DE4-8976-16FB9312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26A-412F-427F-B7C2-0543CDB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D494-37BF-441D-AE14-6F901D60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7701-264C-4CAB-9FB3-ED5EF4AB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638-396C-4297-8604-29A40798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EDA-A63A-464B-B613-28BB2C2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C3B4-6B8C-434B-8903-82592B2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2A86-6FFA-4566-AAE5-ECF1193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AD7F-D2E2-4714-867B-B7CCB4E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833-784B-4829-9727-9D5DC19D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0F87-91D5-454C-B17A-E3FCE5B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B82-0513-4010-8787-5D7EDAE6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6615-2F06-471D-B73D-3438E02F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5BF1C-674A-4A04-97C0-D93421E7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AF1F-E10C-4B28-89C4-281FE23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1D61-AC4F-4B43-B85A-20B4E6BB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8A9F-CF21-48EC-BE87-6F96C130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506C-0210-48B5-8675-F1568D6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80368-38C0-4593-A537-ADC8308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95E-34ED-4A94-AFB4-A7212FBF9A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226-BD17-4BD4-BA55-2A9E21386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mpany Name Organizational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362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89548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89548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4290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411480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76840" y="29718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P of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46640" y="29718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les Re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0920" y="236232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esid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68120" y="34862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VP Engine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3440" y="417204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ffice Mg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84280" y="4172040"/>
            <a:ext cx="96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A 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44400" y="417204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rations Mg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98200" y="4172040"/>
            <a:ext cx="84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urcha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4648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4648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648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648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648320"/>
            <a:ext cx="99072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4648320"/>
            <a:ext cx="990360" cy="30456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8840" y="4705200"/>
            <a:ext cx="84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ffice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81840" y="472428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87000" y="470520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hip. &amp; Re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8000" y="417204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M Fore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41148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OP Fore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62120" y="472428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t-Up/Lead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48120" y="472428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et-Up/Lead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00080" y="472428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ight Supervi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24" idx="0"/>
            <a:endCxn id="110" idx="2"/>
          </p:cNvCxnSpPr>
          <p:nvPr/>
        </p:nvCxnSpPr>
        <p:spPr>
          <a:xfrm flipV="1">
            <a:off x="316224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25" idx="0"/>
            <a:endCxn id="113" idx="2"/>
          </p:cNvCxnSpPr>
          <p:nvPr/>
        </p:nvCxnSpPr>
        <p:spPr>
          <a:xfrm flipV="1">
            <a:off x="544824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24" idx="3"/>
            <a:endCxn id="126" idx="1"/>
          </p:cNvCxnSpPr>
          <p:nvPr/>
        </p:nvCxnSpPr>
        <p:spPr>
          <a:xfrm>
            <a:off x="3657600" y="4800600"/>
            <a:ext cx="152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26" idx="3"/>
            <a:endCxn id="125" idx="1"/>
          </p:cNvCxnSpPr>
          <p:nvPr/>
        </p:nvCxnSpPr>
        <p:spPr>
          <a:xfrm>
            <a:off x="4800600" y="4800600"/>
            <a:ext cx="152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08660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12" idx="0"/>
            <a:endCxn id="115" idx="0"/>
          </p:cNvCxnSpPr>
          <p:nvPr/>
        </p:nvCxnSpPr>
        <p:spPr>
          <a:xfrm rot="16200000">
            <a:off x="4305240" y="685800"/>
            <a:ext cx="360" cy="68583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"/>
          <p:cNvSpPr/>
          <p:nvPr/>
        </p:nvSpPr>
        <p:spPr>
          <a:xfrm flipV="1">
            <a:off x="4267080" y="3733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endshow"/>
            <a:hlinkClick r:id="rId1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06" idx="2"/>
            <a:endCxn id="108" idx="0"/>
          </p:cNvCxnSpPr>
          <p:nvPr/>
        </p:nvCxnSpPr>
        <p:spPr>
          <a:xfrm>
            <a:off x="4305240" y="26668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08" idx="3"/>
            <a:endCxn id="107" idx="1"/>
          </p:cNvCxnSpPr>
          <p:nvPr/>
        </p:nvCxnSpPr>
        <p:spPr>
          <a:xfrm>
            <a:off x="4800600" y="304812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16292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6248520"/>
            <a:ext cx="2819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624852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181480"/>
            <a:ext cx="990720" cy="3049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20880" y="52578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rato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83200" y="52578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perator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124080" y="49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86400" y="49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4956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November 5,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7:37:51Z</dcterms:created>
  <dc:creator>Glenn Schnauber</dc:creator>
  <dc:description/>
  <dc:language>en-US</dc:language>
  <cp:lastModifiedBy>Glenn Schnauber</cp:lastModifiedBy>
  <dcterms:modified xsi:type="dcterms:W3CDTF">2004-11-05T19:52:14Z</dcterms:modified>
  <cp:revision>18</cp:revision>
  <dc:subject/>
  <dc:title>Organizational Chart</dc:title>
</cp:coreProperties>
</file>