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D155-52E4-41C8-88B9-693A38F5C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F752-F722-440D-B87B-63C200FA9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212840" y="755640"/>
            <a:ext cx="4437000" cy="332748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33680"/>
            <a:ext cx="50292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EE28-BAFA-4AD3-AF4C-4D15156AF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A9CB-2D2E-4835-A481-BAB855D9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8011-474F-46E5-A9CC-BB7FC002D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8612-53B7-4F35-9EC0-E02718390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9239-3C06-44B0-ADC4-317F4F51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0EC9-802F-4D0B-AE33-37650BAF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71F2-9477-4A17-8700-6CA41522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2D65-3CA4-4C81-ABB7-C3276049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1805-C4BE-497C-8C58-3BDFFF3A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B4E8-7DE3-4A34-9E5E-2EF99633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BF0D-B395-479E-B976-02302822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BA1E-6A3D-4BDB-9032-6809D24A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B52E-5567-48A8-A274-DF6B68A15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849240" y="1063800"/>
            <a:ext cx="8064720" cy="5598000"/>
            <a:chOff x="849240" y="1063800"/>
            <a:chExt cx="8064720" cy="5598000"/>
          </a:xfrm>
        </p:grpSpPr>
        <p:sp>
          <p:nvSpPr>
            <p:cNvPr id="49" name="_s3111"/>
            <p:cNvSpPr/>
            <p:nvPr/>
          </p:nvSpPr>
          <p:spPr>
            <a:xfrm>
              <a:off x="849600" y="1064160"/>
              <a:ext cx="7675560" cy="5597640"/>
            </a:xfrm>
            <a:prstGeom prst="blockArc">
              <a:avLst>
                <a:gd name="adj1" fmla="val 14880000"/>
                <a:gd name="adj2" fmla="val 6720000"/>
                <a:gd name="adj3" fmla="val 12500"/>
              </a:avLst>
            </a:prstGeom>
            <a:solidFill>
              <a:srgbClr val="f9f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3112"/>
            <p:cNvSpPr/>
            <p:nvPr/>
          </p:nvSpPr>
          <p:spPr>
            <a:xfrm rot="5400000">
              <a:off x="1888200" y="24840"/>
              <a:ext cx="5597640" cy="7675560"/>
            </a:xfrm>
            <a:prstGeom prst="blockArc">
              <a:avLst>
                <a:gd name="adj1" fmla="val 14880000"/>
                <a:gd name="adj2" fmla="val 6720000"/>
                <a:gd name="adj3" fmla="val 125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3114"/>
            <p:cNvSpPr/>
            <p:nvPr/>
          </p:nvSpPr>
          <p:spPr>
            <a:xfrm rot="10800000">
              <a:off x="849240" y="1063440"/>
              <a:ext cx="7675560" cy="5597640"/>
            </a:xfrm>
            <a:prstGeom prst="blockArc">
              <a:avLst>
                <a:gd name="adj1" fmla="val 14880000"/>
                <a:gd name="adj2" fmla="val 6720000"/>
                <a:gd name="adj3" fmla="val 12500"/>
              </a:avLst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3117"/>
            <p:cNvSpPr/>
            <p:nvPr/>
          </p:nvSpPr>
          <p:spPr>
            <a:xfrm rot="16200000">
              <a:off x="1888560" y="24840"/>
              <a:ext cx="5597640" cy="7675560"/>
            </a:xfrm>
            <a:prstGeom prst="blockArc">
              <a:avLst>
                <a:gd name="adj1" fmla="val 14880000"/>
                <a:gd name="adj2" fmla="val 6720000"/>
                <a:gd name="adj3" fmla="val 125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3109"/>
            <p:cNvSpPr/>
            <p:nvPr/>
          </p:nvSpPr>
          <p:spPr>
            <a:xfrm>
              <a:off x="6079320" y="1414080"/>
              <a:ext cx="1965960" cy="14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4200" rIns="124200" tIns="62280" bIns="62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3110"/>
            <p:cNvSpPr/>
            <p:nvPr/>
          </p:nvSpPr>
          <p:spPr>
            <a:xfrm>
              <a:off x="6082920" y="4876200"/>
              <a:ext cx="1965960" cy="14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4200" rIns="124200" tIns="62280" bIns="62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3113"/>
            <p:cNvSpPr/>
            <p:nvPr/>
          </p:nvSpPr>
          <p:spPr>
            <a:xfrm>
              <a:off x="1335240" y="4880880"/>
              <a:ext cx="1965960" cy="14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4200" rIns="124200" tIns="62280" bIns="62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3116"/>
            <p:cNvSpPr/>
            <p:nvPr/>
          </p:nvSpPr>
          <p:spPr>
            <a:xfrm>
              <a:off x="1329480" y="1416240"/>
              <a:ext cx="1965240" cy="14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4200" rIns="124200" tIns="62280" bIns="62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nalyze &amp; A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>
              <a:hlinkClick r:id="" action="ppaction://hlinkshowjump?jump=endshow"/>
              <a:hlinkClick r:id="rId1"/>
            </p:cNvPr>
            <p:cNvSpPr/>
            <p:nvPr/>
          </p:nvSpPr>
          <p:spPr>
            <a:xfrm>
              <a:off x="8609760" y="6323760"/>
              <a:ext cx="304200" cy="305640"/>
            </a:xfrm>
            <a:custGeom>
              <a:avLst/>
              <a:gdLst>
                <a:gd name="textAreaLeft" fmla="*/ 19440 w 304200"/>
                <a:gd name="textAreaRight" fmla="*/ 284760 w 304200"/>
                <a:gd name="textAreaTop" fmla="*/ 19440 h 305640"/>
                <a:gd name="textAreaBottom" fmla="*/ 286200 h 305640"/>
              </a:gdLst>
              <a:ahLst/>
              <a:rect l="textAreaLeft" t="textAreaTop" r="textAreaRight" b="textAreaBottom"/>
              <a:pathLst>
                <a:path w="21600" h="21702">
                  <a:moveTo>
                    <a:pt x="0" y="0"/>
                  </a:moveTo>
                  <a:lnTo>
                    <a:pt x="21600" y="0"/>
                  </a:lnTo>
                  <a:lnTo>
                    <a:pt x="21600" y="21702"/>
                  </a:lnTo>
                  <a:lnTo>
                    <a:pt x="0" y="21702"/>
                  </a:lnTo>
                  <a:close/>
                </a:path>
                <a:path fill="lightenLess" w="21600" h="2170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702">
                  <a:moveTo>
                    <a:pt x="21600" y="0"/>
                  </a:moveTo>
                  <a:lnTo>
                    <a:pt x="21600" y="21702"/>
                  </a:lnTo>
                  <a:lnTo>
                    <a:pt x="20200" y="20302"/>
                  </a:lnTo>
                  <a:lnTo>
                    <a:pt x="20200" y="1400"/>
                  </a:lnTo>
                  <a:close/>
                </a:path>
                <a:path fill="darkenLess" w="21600" h="21702">
                  <a:moveTo>
                    <a:pt x="21600" y="21702"/>
                  </a:moveTo>
                  <a:lnTo>
                    <a:pt x="0" y="21702"/>
                  </a:lnTo>
                  <a:lnTo>
                    <a:pt x="1400" y="20302"/>
                  </a:lnTo>
                  <a:lnTo>
                    <a:pt x="20200" y="20302"/>
                  </a:lnTo>
                  <a:close/>
                </a:path>
                <a:path fill="lighten" w="21600" h="21702">
                  <a:moveTo>
                    <a:pt x="0" y="2170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302"/>
                  </a:lnTo>
                  <a:close/>
                </a:path>
                <a:path fill="darken" w="21600" h="21702">
                  <a:moveTo>
                    <a:pt x="3794" y="10851"/>
                  </a:moveTo>
                  <a:lnTo>
                    <a:pt x="17806" y="3845"/>
                  </a:lnTo>
                  <a:lnTo>
                    <a:pt x="17806" y="17858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Company Name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MS Measur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83808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McK Footnote"/>
          <p:cNvSpPr/>
          <p:nvPr/>
        </p:nvSpPr>
        <p:spPr>
          <a:xfrm>
            <a:off x="1500120" y="5589360"/>
            <a:ext cx="833292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585720" indent="-585720">
              <a:spcBef>
                <a:spcPts val="300"/>
              </a:spcBef>
              <a:tabLst>
                <a:tab algn="l" pos="0"/>
                <a:tab algn="r" pos="5446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85720" indent="-585720">
              <a:spcBef>
                <a:spcPts val="300"/>
              </a:spcBef>
              <a:tabLst>
                <a:tab algn="l" pos="0"/>
                <a:tab algn="r" pos="5446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0120" y="4292640"/>
            <a:ext cx="28702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22520" y="2013120"/>
            <a:ext cx="5883120" cy="33019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29040" y="2735280"/>
            <a:ext cx="1270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79880" y="3560760"/>
            <a:ext cx="2768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17640" y="4076640"/>
            <a:ext cx="3692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1449360" y="4129200"/>
            <a:ext cx="1038240" cy="1135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99240" y="4232160"/>
            <a:ext cx="922320" cy="103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8679800">
            <a:off x="2044440" y="3213360"/>
            <a:ext cx="170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ffective Analysis &amp;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525840" y="1961640"/>
            <a:ext cx="922320" cy="97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2895600">
            <a:off x="5569200" y="3343320"/>
            <a:ext cx="15984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ff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4679640" y="1962000"/>
            <a:ext cx="1095480" cy="1238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02200" y="2271600"/>
            <a:ext cx="93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ty Poli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2887560"/>
            <a:ext cx="228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ational Strategic Quality Objectives &amp; Customer Satisfaction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95800" y="3613320"/>
            <a:ext cx="263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S Process / Departmental Metrics and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0760" y="4129200"/>
            <a:ext cx="37400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 / Project Level Metrics &amp;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 Performance Metrics &amp;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98520" y="4695840"/>
            <a:ext cx="4730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98520" y="4748040"/>
            <a:ext cx="47307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ual &amp; Logical Approach to Decision 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ication, Collection &amp; Analysis of Records /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-April-2005</a:t>
            </a: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3T12:37:20Z</dcterms:created>
  <dc:creator>Glenn Schnauber</dc:creator>
  <dc:description/>
  <dc:language>en-US</dc:language>
  <cp:lastModifiedBy>GS</cp:lastModifiedBy>
  <dcterms:modified xsi:type="dcterms:W3CDTF">2005-04-14T13:24:10Z</dcterms:modified>
  <cp:revision>7</cp:revision>
  <dc:subject/>
  <dc:title>Comprehensive Measurement Systems</dc:title>
</cp:coreProperties>
</file>