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7E0E-E631-4789-8054-70050AF9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D29-E740-460C-9455-8910E2C3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7FD3-5FEB-4528-BE89-B0150DFC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1E73-FBE8-4EAC-B24C-5C155383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DDF2-FCEA-4095-ACA9-C9EB5E82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D917-68B2-4F6C-A88B-4EB3E694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A773-1855-4B9B-AF49-9646D1FF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81B4-465E-4D5E-B2F6-4C21A335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689F-FDD5-4A70-B33A-81A62B7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677-1CB8-4FF5-99C4-9FFA1F6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045F-9807-4894-86A9-0C85804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78CB-FAAE-4F5D-96D2-F8BC7C29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FAA2-B34A-4257-9005-240DAD2E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2DA9-0E0D-4908-B328-1E2CC62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2907-81CA-42D1-893F-296112D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51D4-4470-4AA7-8003-CB7A57F1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41BC-88C4-4A95-8FF4-DEE63712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3C05-B279-491F-A266-2F54281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98CD-9AC7-4D62-99B1-BA44A28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0164-6285-456C-A413-5E8A4FEE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0458-C669-4C1F-84D0-84BCB629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1D53-1B44-448C-9E5D-EF89590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985B3-AD89-4D43-A2EF-A72B0E29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0F75-D86B-4A0C-ABA6-54C2B6FE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5F46-E7E4-4E27-ADA5-EBD2B9CC2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F144-E442-4939-9861-8F7AA875A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52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ing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 Maintenance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aine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ire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ing Manufacturer Supplied instructions and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mak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Equipment Unscheduled Down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ual Cost of tooling / tooling 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1:46:41Z</dcterms:modified>
  <cp:revision>39</cp:revision>
  <dc:subject/>
  <dc:title>SIPOC</dc:title>
</cp:coreProperties>
</file>