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779F6-9D85-437C-A8CD-C0336F90A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055CD-70E2-412A-A077-C6FABD7C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D3D87-BA88-40FF-B667-AC4CA4487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5A964-DA8E-4D0B-B3FC-DF8A300F9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2FC2-368B-4022-A47D-6046214B8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FC07-EB58-45D0-9191-877CCBB6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61F2-547C-431E-A8C9-EFA6A46B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A3B5-669E-40CE-A4B2-FC3792E8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D26E-FAE9-4DA5-807C-120D6ABB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CBAB-D62B-4FE4-A42F-25A50035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5A13-98DD-49AB-83F3-EAB1505D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A5BA4-34C7-4ACC-B7F8-9BC68F3F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D544-7C55-4128-BFE8-B6A11767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83C8-A735-47DD-9CEB-075A1180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5E36-4D20-44AC-87D8-B5365C31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B6D8-B2CE-4418-BB11-CF8A3FEBC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D23B-1E0F-4FD4-A019-2AA7B4EFF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03FF8-AD03-407C-B7E1-809C8D5F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CA7B8-6F40-4C9E-96E5-DAA9F02A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C5BC3-4533-4BE1-8A54-1BDD9014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A0C86-52B3-42AD-AD90-CF025ED2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D9134-D457-4E59-8C1E-729F4ED4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3ACE1-00B2-4583-B5AD-A8AEA30C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CD768-2994-41AD-8460-A5CF1272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6B75-F5C9-48C7-B96C-4D16C325F6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4C9F-783C-4B4C-982E-8F209BE539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" action="ppaction://hlinkshowjump?jump=endshow"/>
            <a:hlinkClick r:id="rId1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Process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2971800"/>
            <a:ext cx="2743200" cy="1295280"/>
          </a:xfrm>
          <a:prstGeom prst="bevel">
            <a:avLst>
              <a:gd name="adj" fmla="val 12500"/>
            </a:avLst>
          </a:prstGeom>
          <a:solidFill>
            <a:srgbClr val="00007d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31240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60948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7d"/>
                </a:solidFill>
                <a:latin typeface="Arial"/>
              </a:rPr>
              <a:t>Process Owner: </a:t>
            </a:r>
            <a:r>
              <a:rPr b="0" lang="en-US" sz="1400" spc="-1" strike="noStrike" u="sng">
                <a:solidFill>
                  <a:srgbClr val="00007d"/>
                </a:solidFill>
                <a:uFillTx/>
                <a:latin typeface="Arial"/>
              </a:rPr>
              <a:t>IT Dir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3352680"/>
            <a:ext cx="221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ation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nal System Us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53360" y="1050840"/>
            <a:ext cx="12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pli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(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048120"/>
            <a:ext cx="2286000" cy="14475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Related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23640" y="2639880"/>
            <a:ext cx="92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30481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gra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Instal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stom Repo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nal System Us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7240" y="1039680"/>
            <a:ext cx="13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tomer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44280" y="2639880"/>
            <a:ext cx="10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t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137160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14479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52680" y="1447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11430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6000" y="114300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od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Administ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gramming Sta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ther Outside Suppli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9480" y="457200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r up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aster recovery simulation 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8840" y="457200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ric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vised 12-April-2005</a:t>
            </a: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8:43:24Z</dcterms:created>
  <dc:creator>Glenn Schnauber</dc:creator>
  <dc:description/>
  <dc:language>en-US</dc:language>
  <cp:lastModifiedBy>GS</cp:lastModifiedBy>
  <dcterms:modified xsi:type="dcterms:W3CDTF">2005-04-14T13:15:01Z</dcterms:modified>
  <cp:revision>40</cp:revision>
  <dc:subject/>
  <dc:title>SIPOC</dc:title>
</cp:coreProperties>
</file>