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861A-B67E-43C0-B3E8-5CE9A118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B7B0-2819-4B4C-9DF7-95CF109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C68C-41AA-4525-A5DA-AB1DEE03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C68D-9251-494F-8A09-A80A433F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B1EA-1191-48F8-8AB0-7327D573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5F4B-AD53-404F-8BDA-A6FAB616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A12E-3F43-431C-BC91-DAC28910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B43D-12DB-435C-ACEE-5EDADFA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A868-1759-4C8D-97DF-39D9156C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E84-19C3-469B-B978-ADDF6398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842F-A6E6-4364-A9B9-4BB8C15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CA82-7A16-420B-BAEF-420376D3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025-16A0-43EE-A092-64DCEEC2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BA4A-AEFD-40B6-8DED-500FB46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52E-8D9B-4948-A602-5D7331CF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A573-A1F3-4819-8696-1BBCCBA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45CE-B635-488D-807B-258E3812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46A4-3DAC-4E6F-8B18-F5536A88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CA00-E071-4B8A-857F-4DD87D6B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AAA5-E2D6-4056-B03E-CC686D4A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A48E-44F7-4CD2-B4F5-C237A950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62AD-6C3C-4A02-A5C6-859F39AE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558F-4C93-4475-808B-72F8F7B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F26A-FC32-4B17-A2E4-43A7A312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7D3-72D7-48FD-BD9F-8C3C55A6B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720-1F4F-4841-9DD1-85FB0352F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094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es &amp;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Data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371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p Drawing Appro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ge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PAP Approv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9:26Z</dcterms:modified>
  <cp:revision>40</cp:revision>
  <dc:subject/>
  <dc:title>SIPOC</dc:title>
</cp:coreProperties>
</file>