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C6BA-7CC2-4E99-BA30-36EC1573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60A1-22BF-493C-9807-69205829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F4C2-2366-4D9B-AC11-DCA7D369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C6FE8-847F-4BF3-AB8A-5A91B0B3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4556-D891-4DFA-AE3B-9E59F758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2B0F-B155-43CD-BF47-647C05B7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DCC3-2883-4571-BA21-EAFF48CD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D9A2-6527-407C-A74B-BD342AC8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F3BE-72AA-439B-BE69-27862E6D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3FE7-567C-4251-8BAB-D4019824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4C82-E4AD-45ED-8930-C2EEFE04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31A5-E58C-4C4A-8F63-E683ACD6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BD19-FA79-48D5-B86A-5A2493C0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1EE3-C36D-419B-9F0E-AB891963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3194-F019-4C1E-8FAB-E57F5AA0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6546-162F-4052-964D-9A71EA32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B4C0-4652-4F33-BEE0-DC6D0445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C3F2-0C6E-4B48-8144-CC3BDC27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9937A-C442-4DF0-BAAF-1D10D5BA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D577-4131-4335-AB30-7BE87920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31EB1-9673-46AC-817D-A9386ACB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5D8F4-F5E9-4A77-9062-5A901F7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B6879-3DF2-4B88-A0C7-8B977201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D5861-E51D-4D42-982F-C0E5B599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28BF-6C1E-425A-B103-0E5DA73F83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4EC6-D874-4C35-B0A2-ECC0B9D890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094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VP of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35268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rnal Custome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ing Pers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facturing Pers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Cost Esti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Pr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CMR datashe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ing Purchase Orders Issu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Impro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ering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facturing Pers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D/CA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ta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Inquiry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0:43Z</dcterms:modified>
  <cp:revision>41</cp:revision>
  <dc:subject/>
  <dc:title>SIPOC</dc:title>
</cp:coreProperties>
</file>