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ABD0E-CE2F-4B3D-9E6F-80CBF6E4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DE49-103E-4479-B996-575B37C1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D214-B7A8-4523-B244-093820B8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4D44-A16C-4071-9A23-355B9C2A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D5A3-7849-444C-9F73-742F0DEF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0AA0-4651-4EF6-B5B9-E7195BCB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5DFB-0D33-41FA-AEC5-F3069720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F395-DC47-488D-B62B-8B6CA41F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3F5C-5892-4531-8C1B-A3CB6009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EE4F-D0D0-4B07-86CC-2CCF4DFE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4DAE-AFF2-487B-A012-C1B644AF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30FC5-114C-4ED0-8EFC-6F4D433C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8BB9-35F3-4118-A838-9E3433BD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2F80-7A7C-4D02-9B9B-77FFDBD8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BBF5-0A7C-4D1B-B4D9-C9C9475D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E35B-0E3F-43A3-B4AF-69A7D51F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BF7C-A009-4BEA-B06B-15C08BBC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E39F4-35B6-409F-8854-EFA57D7A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C9B56-7E55-462C-AABF-944A91FE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7E92-04DC-4C95-8AA6-9B306ACA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7BB8-C2F4-4610-9FBD-ECA764CB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A2991-794C-4479-92F3-1619622E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27243-6696-4233-B753-7F52649D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58FCB-D964-405C-90E9-08E9ED4C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0EC4-CF9C-4E6A-A094-B76820D0A6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A60B-0A40-4844-8929-C91B653E5D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609480"/>
            <a:ext cx="312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Operations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ew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ion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447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w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rnal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ide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3716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00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vi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-Up Sta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-Up/Op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Quality Rat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Delivery Performance Re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ion Inquiry Re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ve Action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884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04:36Z</dcterms:modified>
  <cp:revision>42</cp:revision>
  <dc:subject/>
  <dc:title>SIPOC</dc:title>
</cp:coreProperties>
</file>