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839E4-6961-4F19-95B4-8517FC294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C21FD-C2C9-446B-BE08-455ECF8DC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BB560-5802-430B-827D-22A56EA4E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F3408-4726-471C-BA8C-180039E1E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28A83-162B-4BFF-8CF4-FA1FAD97D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7BEEC-A3DF-49C0-A6B8-FFD43EC1E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EE09C-E2EB-4818-895F-A7F172217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AD886-179C-4437-915E-5503FBC86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981F9-A0E0-49D4-947F-068C47B3A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07467-FE14-4659-9CA6-6A42382DB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5FD5A-CAEA-49DC-BAA6-01B14A9D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B9441-CA53-441B-8796-16AB4DBFD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DE8E7-89AD-40AE-A8B0-4F9D6D5E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4B7EF-67F4-44C1-B3E9-DBE9C8796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74B21-1E76-49D1-8DF6-C39234079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328DD-6CD4-4412-A5EE-EB2031523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F809D-41E0-4280-8A9E-91571B875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A8E3A-3B20-4C19-9AA2-C515D5258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396AD-0D5E-4CA0-9BCE-CF2D419D9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48345-D81B-4124-8D42-17DB8F050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2AAA5-6FE0-4FFF-B433-6E1EE1DD8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CA41D-CBF2-4179-98C6-3C5B298DC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8F73A-F156-45FD-9249-D4B51F4B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F9BDF-CB7C-4AEF-9C7D-5E814AD8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D13BD-EF82-474B-8482-32E4942F86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A5DE7-AC86-4DCD-B13F-3C8D677DAC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.wav" TargetMode="External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>
            <a:hlinkClick r:id="" action="ppaction://hlinkshowjump?jump=endshow"/>
            <a:hlinkClick r:id="rId1"/>
          </p:cNvPr>
          <p:cNvSpPr/>
          <p:nvPr/>
        </p:nvSpPr>
        <p:spPr>
          <a:xfrm>
            <a:off x="8534520" y="63244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10813"/>
                </a:moveTo>
                <a:lnTo>
                  <a:pt x="17806" y="3806"/>
                </a:lnTo>
                <a:lnTo>
                  <a:pt x="17806" y="17819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Process Det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2680" y="2971800"/>
            <a:ext cx="2743200" cy="1295280"/>
          </a:xfrm>
          <a:prstGeom prst="bevel">
            <a:avLst>
              <a:gd name="adj" fmla="val 12500"/>
            </a:avLst>
          </a:prstGeom>
          <a:solidFill>
            <a:srgbClr val="00007d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038480" y="312408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609480"/>
            <a:ext cx="3124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7d"/>
                </a:solidFill>
                <a:latin typeface="Arial"/>
              </a:rPr>
              <a:t>Process Owner: </a:t>
            </a:r>
            <a:r>
              <a:rPr b="0" lang="en-US" sz="1400" spc="-1" strike="noStrike" u="sng">
                <a:solidFill>
                  <a:srgbClr val="00007d"/>
                </a:solidFill>
                <a:uFillTx/>
                <a:latin typeface="Arial"/>
              </a:rPr>
              <a:t>Operations Mana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342900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1447920"/>
            <a:ext cx="2286000" cy="11430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rew Mach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uction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rchas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53360" y="1050840"/>
            <a:ext cx="120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ppli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(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3048120"/>
            <a:ext cx="2286000" cy="144756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ob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23640" y="2639880"/>
            <a:ext cx="92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put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629400" y="3048120"/>
            <a:ext cx="2286000" cy="11430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629400" y="1447920"/>
            <a:ext cx="2286000" cy="11430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ternal Custom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ent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side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167240" y="1039680"/>
            <a:ext cx="137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tomer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244280" y="2639880"/>
            <a:ext cx="108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tput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76720" y="1371600"/>
            <a:ext cx="2743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1447920"/>
            <a:ext cx="2743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352680" y="1447920"/>
            <a:ext cx="2741760" cy="1371600"/>
          </a:xfrm>
          <a:prstGeom prst="rect">
            <a:avLst/>
          </a:pr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343400" y="114300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66000" y="114300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thod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52480" y="4876920"/>
            <a:ext cx="2741760" cy="1143000"/>
          </a:xfrm>
          <a:prstGeom prst="rect">
            <a:avLst/>
          </a:pr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ervis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t-Up/Lead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r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t-Up/Oper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89480" y="457200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ourc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029200" y="4876920"/>
            <a:ext cx="2741760" cy="1143000"/>
          </a:xfrm>
          <a:prstGeom prst="rect">
            <a:avLst/>
          </a:pr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stomer Quality Rat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stomer Delivery Performance Repor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uction Inquiry Repor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rective Action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8840" y="4572000"/>
            <a:ext cx="80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tric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evised 12-April-2005</a:t>
            </a: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8:43:24Z</dcterms:created>
  <dc:creator>Glenn Schnauber</dc:creator>
  <dc:description/>
  <dc:language>en-US</dc:language>
  <cp:lastModifiedBy>GS</cp:lastModifiedBy>
  <dcterms:modified xsi:type="dcterms:W3CDTF">2005-04-14T13:05:43Z</dcterms:modified>
  <cp:revision>44</cp:revision>
  <dc:subject/>
  <dc:title>SIPOC</dc:title>
</cp:coreProperties>
</file>